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28.wmf" ContentType="image/x-wmf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png" ContentType="image/png"/>
  <Override PartName="/ppt/media/image19.wmf" ContentType="image/x-wmf"/>
  <Override PartName="/ppt/media/image16.png" ContentType="image/png"/>
  <Override PartName="/ppt/media/image15.jpeg" ContentType="image/jpeg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4E7-EC72-484F-AE5B-B81806A1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2BF-30D1-4115-88C8-DF1D9207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5D2DB-956F-4190-9152-7147E5C6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3909E-7A41-4292-88BB-17364793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AD878-E3EA-445B-B87A-79AFAAB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3DADB-D499-4B48-973D-55981D8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C6F2-8B3C-44D1-8C6F-AC96048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AE2F1-169E-48A7-A135-2F476D7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D0D1-2F7E-44C6-A2C6-4AE6EA10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B24B0-37AB-4062-A183-0AE57ED1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D695D-54BE-42A7-B219-13E1955E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303E6-0C0B-4841-BE30-0BD92030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765-F002-4198-8B5B-FFD103A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C944C-C3A3-4D7C-9134-B767A7D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6CB34-36BE-4BA8-BFF4-58168EE8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63CC0-17DA-4844-932C-4241977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7E7B2-BC9E-4DA1-95CE-6471D9AC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D8F55-B79C-46F3-92F2-2B111D83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F070-BA34-4B1B-A594-3F168C3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8D70F-06DE-4D44-B4B6-7EAE4FAE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32153-85EF-4C5A-BB55-0BF2CA4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5F83C-7E94-4ED9-ADB6-5E1436CE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6B6E-B595-4D6E-8268-5E49819F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1E6-804E-48C3-A395-3FC436CA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61E20-C0B8-4BDE-94BC-BDE7AAD0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1502-8DD7-46EB-85F3-3DD475C0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33255-2955-49DC-8D0D-CCC120E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A9F84-6B7D-47D8-BE66-FCA57F59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8FA2-D3A3-4E69-886A-04DC5F3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FDD6B-DBEB-4371-A011-1F5C7B4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5E68F-D999-445D-9A7E-BEA5B873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4179C-6B3F-497D-ACF7-D07D278E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435B4-5DB4-46AD-9BA1-B5F3756E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9215-2EF9-415E-81AF-292167E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2FF-1FF1-49A3-81A2-AC312943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6014-1087-4CEF-97CA-EA8E895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7AAD-6745-458A-B90B-91E7DD78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D8C07-3397-40D2-A372-CD58F3FA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54CFC-8807-4816-B6A6-BF89AA9B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2DC63-9F6F-4DFA-B873-7389BB1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FEB31-2618-45F5-B196-D4C1B86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9EE1B-EEFE-4F3E-9CF1-4F8BBB2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B3B7A-ACFB-4EB7-B60B-4C00EDF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575FB-2F4F-4EC8-87AE-5C2A029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348E-FD64-4920-9B79-677C788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00E-EDFA-4598-B365-1E0BE65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ED08D-2998-46CA-A885-03A8653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8489-FBED-4A87-A009-3B5BB19C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CD4D5-132D-4369-B2F1-20D06D8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B2E5-C565-42AF-AC43-12785585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E52AE-2B74-42BD-9AAA-AC019F7D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DCB01-4352-437D-872E-5185D48F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A282B-7F89-402B-B51E-0CBAF82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FB8DF-FA93-4854-A56A-BB033D59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7671A-807F-4DDA-9F59-2255331E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85E3C-8E12-4B8A-91AD-FB8FA94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4CE4-EC96-4A03-9C1F-72FF8D3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674E7-23DC-4488-85EE-11E7C56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6BCD7-293F-4A2A-B01E-3E8EA83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91798-60F3-4145-959B-9E97963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EFF00-12CE-469F-AEC4-98BFBC2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69DBE-2A4C-40C1-9D61-209ADB5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17A57-4ABC-413A-AC35-17B41AAF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61D5-E4C5-48F1-B2E5-D9090322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AE725-A1F9-4051-BBD8-E3B32821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BF0CB-2028-4267-8E2F-42ED8CB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4B5DC-C61D-46E2-92C8-6E78657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E581-0118-4987-B9F4-72B98FA6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C6868-05F8-40FE-9623-044E37B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45EED-B0F7-480B-8CDA-B0F7070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39439-C34F-4E80-9018-589AB29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B7D6A-861F-48CA-A4AD-F51BB5A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246C8-B2C0-4BC4-BBEB-CA322F5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AF5C5-6E8D-4BEB-871C-F8C5409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3359F-0A5E-4B54-BB5D-083FE0B4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072DD-67D8-4088-A785-7A30A6E2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51EB7-4E97-4FD5-9913-87033BBB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AB31A-56A1-44B1-871B-4B586621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3B8D-D5ED-4614-BCF1-6AA1E30F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52079-0540-4B9C-8B6B-E82F6E1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FE571-8DF3-4CA5-9A42-BDE6E61D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DB2D9-3724-4338-99EC-3C64D9B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5723B-046F-44DE-8DD0-4F6A671B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68774-135F-4DFD-8D29-2165C56F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1B279-ECD9-42AD-BAB3-C525F56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B3BB0-B8B3-4E96-B555-DC80BC7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E3486-460A-4323-9BDD-7173B9A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06A9A-8AF8-4D52-B85F-070252B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2D4D1-239C-4A24-B0AA-098B487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D14B-4CF5-4EEE-B8A6-B743C18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F864D-9D3C-493C-9B81-379916C2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DEE17-B42D-4489-A79D-9E3509F1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26147-8B1D-4CEF-9B32-C7DD255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115FE-3D67-4F15-A527-D939650E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8537A-B5C5-448F-ACDE-56D68D8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3B311-EDE9-42EF-A6FE-7925078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6A9E2-B71F-4F5F-80A0-C14F0E3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2E503-CF03-415C-BAB6-35BBBFC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5BEE0-6B96-4B6F-B29F-8FF6CF2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DA804-AB5A-49BE-831F-E01B327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2AA6-2449-494B-8F67-6629925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CE12A-5ED7-4369-B41D-C47DDF49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7D105-86A6-4E6F-9FD2-93A0B4BC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BF2C3-1A06-4049-B990-9C814196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10F-5EE5-4EFF-AC39-952BFC6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6260-94FB-4283-9FF0-BDCC6EA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CB40-78DF-4BAF-AB63-CE7BE7C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B228-60DA-4AE5-BF4B-3EE72A1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DBD-AB1F-4208-B3BB-7D191702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201-E9C0-401E-ACFB-1896A7F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C958-D5AB-4330-86E9-C170584E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E129-3163-4885-87E5-1287740B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2F4F-6B66-4CCA-9CA6-3EABB4E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5AD9-71F4-4BA2-9B53-6EE968A9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B3DF-06D5-46D6-9019-9EEAD5C6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FDF-BA67-4C0E-920B-924F072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BD4E-D23D-428C-BE0B-91D27A5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110B-DA16-419E-B7D4-AC06769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F85D-F834-4B2C-BC98-81915AC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55AE-8F58-479F-A8E6-4708A69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B07E-62C4-450B-8583-FF59364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F938-DC47-4A21-A078-C48F76D5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F716-5FC3-4C4C-8079-5D59A49A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5125-1378-4A3C-8FBB-BF7FB2C1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C2B2-0D0F-4236-AD85-AD40E3F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5438-89F2-415D-A0E3-5BFCC596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52A-0BAB-4CD7-99BB-C39CA025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9106-DE93-4A14-8FCB-178D2F3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187B-BAB6-44AD-B7DE-7A15AB36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D1E3-58FB-430D-A29E-2DE96D89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B10B-216E-4514-942A-9D09BD3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E671-5BF4-4EA5-85AD-BECBCAB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3E8C-2A1A-466F-835A-5B149C4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60F9-EAFB-4E5C-93D7-22745CD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FAAC-680A-4411-B76E-185A887E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804E-3A11-40E0-915B-9E370F10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3283-84F0-4E84-914A-42EEC646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000-F10B-47E5-938B-2F7095E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2D4A-5A0C-49FA-AA12-AE2C9F5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8FCC-5B0B-4ADD-B3CC-D11670C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5E71-6B42-4A19-AE9A-387A824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E184-6F9A-4794-A281-A4B4224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3D80-7F2C-42B6-A765-4A5C1DB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8E5B-1C80-406C-AF61-4D9AC89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84BE-2AEA-448F-A810-B0753EB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6C4F-1C98-4F89-B3DE-3023DF5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DF27-D84A-480F-83A6-24EBD18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F166-7CFF-48A1-81A7-0C3F729E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2B9-14A5-4043-B557-6CAC635D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3FAA-7C0A-4468-9150-BBFE7250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FC8E-8CD4-4F2B-861B-AF0051CA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A79DB-ECB5-4A80-898E-11747466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312C-CC65-422F-80F4-045AA3F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F427-B82D-4D0B-B0E8-0045159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29CC-428F-4E3B-8188-202CAF3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0EE7-FEDD-4AB0-839C-4217262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4389-52F9-4477-91ED-0FC934A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644D-019E-449D-8E4F-FA4B287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85A1-6E8F-4CA0-9DDF-9A25FB8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21B-45A8-429B-890D-803F1AC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0392-5CBA-4EE7-906D-F4216BC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167D-9430-435A-B357-8A657602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5DC5-C9BF-4F12-BEC6-8DA2666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7CC7-F6E7-414D-82E8-F3C08736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3BE8-1BA3-4DC7-9181-635BAAE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0CA06-AC10-45AE-A3C3-061D9E4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BAD2-6928-47B9-8731-91B5563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BB5F-9730-47C7-92D7-38BCE03B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FC5E7-AE96-4390-90FE-C3F0EDDA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523D5-6E76-4D14-BCF5-2538A8E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17-5369-4770-8705-ABE87CD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730C6-1514-433B-AC71-E816055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7E87-FF56-49EC-9C1D-7098862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EC277-FC1C-4B7E-B8F0-85EE3D9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D2D6-EB28-4AB5-8D5B-26EA3F0D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1113-14EA-4278-B573-0106A287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1ACA2-DE6D-447B-864D-51BBA1D7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1C0A-7B61-4DF3-8921-8C238CCA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26FE-5762-4797-AADA-D707476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3F7B4-FE60-425E-8795-74DD9013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296A-2F7E-4CA7-82AA-4841AC8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A11-9684-4B36-9938-6E9E051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91BAA-D33C-4DD6-BECA-277733F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5B6F3-F6E0-481F-855A-33B2205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D619-5CFD-4AA1-9160-B3F3C573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C3954-055C-4B93-80FF-F491490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8C55-ED5D-4E36-9812-4988F7F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E99E-0109-4563-B4BF-1FCD6410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AD67-6051-4605-BE3F-CBAED324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C8074-1D21-4908-9796-331E6A05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10D6-21E4-4692-9D09-058B32B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133F-D1DD-4CB0-AAB7-1DD7DB53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D2B-89D6-416D-A2B5-CD998A6857C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9115-042D-4722-958D-47494F52617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414-A876-4E7D-A5B2-FEA51D5B085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131-8421-4110-977C-A827D564459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44F-4D3D-452B-A96B-0D3DE3052E1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33A-AA3F-4558-A7FA-D9DEC098862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730-EF00-446D-919F-AB9FB6DE03B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0B34-6BFA-416C-AC59-1792BFF8E62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58D-7F7C-40F0-9594-AD7AE17BF16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2D6-F9E2-4D4C-8C7B-00055D3B003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CBF6-83C9-4240-A219-5C7BA6B9635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E60D-217B-4DBF-8F51-40F7F3B3690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9FF3-243B-450B-ACD6-6B0F54DB8A5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114-66D7-41A6-809A-3FBCFFC6EEA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C1A2-3628-4776-8BBA-7140BD0453E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1AD8-8A81-4720-A480-1F9FCD14ADF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Прямоугольник 4"/>
          <p:cNvSpPr/>
          <p:nvPr/>
        </p:nvSpPr>
        <p:spPr>
          <a:xfrm>
            <a:off x="614520" y="1130400"/>
            <a:ext cx="11290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III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Емельяновские  чтения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которые аспекты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еменного дела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молочном животноводстве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Прямоугольник 5"/>
          <p:cNvSpPr/>
          <p:nvPr/>
        </p:nvSpPr>
        <p:spPr>
          <a:xfrm>
            <a:off x="1809720" y="4836960"/>
            <a:ext cx="88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окладывает – </a:t>
            </a:r>
            <a:r>
              <a:rPr b="1" lang="ru-RU" sz="2400" spc="-1" strike="noStrike">
                <a:solidFill>
                  <a:srgbClr val="7c240c"/>
                </a:solidFill>
                <a:latin typeface="Century Gothic"/>
              </a:rPr>
              <a:t>Прожерин Валентин Петрович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.н.с. Ар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ельский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ИИСХ, д.с.-х.н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Рисунок 3" descr=""/>
          <p:cNvPicPr/>
          <p:nvPr/>
        </p:nvPicPr>
        <p:blipFill>
          <a:blip r:embed="rId1"/>
          <a:stretch/>
        </p:blipFill>
        <p:spPr>
          <a:xfrm>
            <a:off x="11271240" y="200160"/>
            <a:ext cx="603360" cy="101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6" name=""/>
          <p:cNvGraphicFramePr/>
          <p:nvPr/>
        </p:nvGraphicFramePr>
        <p:xfrm>
          <a:off x="1363680" y="1320840"/>
          <a:ext cx="10510920" cy="5567400"/>
        </p:xfrm>
        <a:graphic>
          <a:graphicData uri="http://schemas.openxmlformats.org/drawingml/2006/table">
            <a:tbl>
              <a:tblPr/>
              <a:tblGrid>
                <a:gridCol w="2101680"/>
                <a:gridCol w="2103480"/>
                <a:gridCol w="2100240"/>
                <a:gridCol w="2102040"/>
                <a:gridCol w="210348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ение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ой, кг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очный у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й в %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 жир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 белк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Утр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,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,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бед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6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8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,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Вечер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,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52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За сутки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8,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,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9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,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особ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бор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 – 10 - 1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пособ отбор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8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33 – 33 - 33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4,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0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727" name="TextBox 1"/>
          <p:cNvSpPr/>
          <p:nvPr/>
        </p:nvSpPr>
        <p:spPr>
          <a:xfrm>
            <a:off x="1736640" y="219240"/>
            <a:ext cx="95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контрольного доения племенных коров (744 сеанса доения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Группа 18"/>
          <p:cNvGrpSpPr/>
          <p:nvPr/>
        </p:nvGrpSpPr>
        <p:grpSpPr>
          <a:xfrm>
            <a:off x="5459400" y="4129200"/>
            <a:ext cx="1359000" cy="2117520"/>
            <a:chOff x="5459400" y="4129200"/>
            <a:chExt cx="1359000" cy="2117520"/>
          </a:xfrm>
        </p:grpSpPr>
        <p:pic>
          <p:nvPicPr>
            <p:cNvPr id="729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924160" y="5469480"/>
              <a:ext cx="8942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5915160" y="4129200"/>
              <a:ext cx="8762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5459400" y="4817160"/>
              <a:ext cx="89424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Группа 2"/>
          <p:cNvGrpSpPr/>
          <p:nvPr/>
        </p:nvGrpSpPr>
        <p:grpSpPr>
          <a:xfrm>
            <a:off x="946080" y="3151080"/>
            <a:ext cx="2871720" cy="1092240"/>
            <a:chOff x="946080" y="3151080"/>
            <a:chExt cx="2871720" cy="1092240"/>
          </a:xfrm>
        </p:grpSpPr>
        <p:grpSp>
          <p:nvGrpSpPr>
            <p:cNvPr id="733" name="Группа 19"/>
            <p:cNvGrpSpPr/>
            <p:nvPr/>
          </p:nvGrpSpPr>
          <p:grpSpPr>
            <a:xfrm>
              <a:off x="946080" y="3235680"/>
              <a:ext cx="1258920" cy="964080"/>
              <a:chOff x="946080" y="3235680"/>
              <a:chExt cx="1258920" cy="964080"/>
            </a:xfrm>
          </p:grpSpPr>
          <p:pic>
            <p:nvPicPr>
              <p:cNvPr id="734" name="Рисуно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739880" y="3235680"/>
                <a:ext cx="465120" cy="89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5" name="Рисунок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946080" y="3305520"/>
                <a:ext cx="742320" cy="89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6" name="Рисунок 26" descr=""/>
            <p:cNvPicPr/>
            <p:nvPr/>
          </p:nvPicPr>
          <p:blipFill>
            <a:blip r:embed="rId6"/>
            <a:stretch/>
          </p:blipFill>
          <p:spPr>
            <a:xfrm>
              <a:off x="2218320" y="3151080"/>
              <a:ext cx="159948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Группа 1"/>
          <p:cNvGrpSpPr/>
          <p:nvPr/>
        </p:nvGrpSpPr>
        <p:grpSpPr>
          <a:xfrm>
            <a:off x="8037360" y="795240"/>
            <a:ext cx="3959280" cy="911160"/>
            <a:chOff x="8037360" y="795240"/>
            <a:chExt cx="3959280" cy="911160"/>
          </a:xfrm>
        </p:grpSpPr>
        <p:grpSp>
          <p:nvGrpSpPr>
            <p:cNvPr id="738" name="Группа 17"/>
            <p:cNvGrpSpPr/>
            <p:nvPr/>
          </p:nvGrpSpPr>
          <p:grpSpPr>
            <a:xfrm>
              <a:off x="8037360" y="795240"/>
              <a:ext cx="2361240" cy="893520"/>
              <a:chOff x="8037360" y="795240"/>
              <a:chExt cx="2361240" cy="893520"/>
            </a:xfrm>
          </p:grpSpPr>
          <p:pic>
            <p:nvPicPr>
              <p:cNvPr id="739" name="Рисунок 6" descr=""/>
              <p:cNvPicPr/>
              <p:nvPr/>
            </p:nvPicPr>
            <p:blipFill>
              <a:blip r:embed="rId7"/>
              <a:stretch/>
            </p:blipFill>
            <p:spPr>
              <a:xfrm>
                <a:off x="8037360" y="795240"/>
                <a:ext cx="590400" cy="89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0" name="Рисунок 9" descr=""/>
              <p:cNvPicPr/>
              <p:nvPr/>
            </p:nvPicPr>
            <p:blipFill>
              <a:blip r:embed="rId8"/>
              <a:stretch/>
            </p:blipFill>
            <p:spPr>
              <a:xfrm>
                <a:off x="8627760" y="893520"/>
                <a:ext cx="894240" cy="7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1" name="Рисунок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9522000" y="812880"/>
                <a:ext cx="876600" cy="875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2" name="Рисунок 23" descr=""/>
            <p:cNvPicPr/>
            <p:nvPr/>
          </p:nvPicPr>
          <p:blipFill>
            <a:blip r:embed="rId10"/>
            <a:stretch/>
          </p:blipFill>
          <p:spPr>
            <a:xfrm>
              <a:off x="10512000" y="812880"/>
              <a:ext cx="5900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Рисунок 25" descr=""/>
            <p:cNvPicPr/>
            <p:nvPr/>
          </p:nvPicPr>
          <p:blipFill>
            <a:blip r:embed="rId11"/>
            <a:stretch/>
          </p:blipFill>
          <p:spPr>
            <a:xfrm>
              <a:off x="11102400" y="911160"/>
              <a:ext cx="89424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Выгнутая вверх стрелка 20"/>
          <p:cNvSpPr/>
          <p:nvPr/>
        </p:nvSpPr>
        <p:spPr>
          <a:xfrm rot="7705200">
            <a:off x="7260840" y="3526920"/>
            <a:ext cx="3997440" cy="781200"/>
          </a:xfrm>
          <a:custGeom>
            <a:avLst/>
            <a:gdLst>
              <a:gd name="textAreaLeft" fmla="*/ 925920 w 3997440"/>
              <a:gd name="textAreaRight" fmla="*/ 2973960 w 3997440"/>
              <a:gd name="textAreaTop" fmla="*/ 104400 h 781200"/>
              <a:gd name="textAreaBottom" fmla="*/ 676800 h 78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5" y="0"/>
                </a:lnTo>
                <a:arcTo wR="10009" hR="21600" stAng="-5400000" swAng="2465859"/>
                <a:lnTo>
                  <a:pt x="20430" y="11467"/>
                </a:lnTo>
                <a:lnTo>
                  <a:pt x="20545" y="21600"/>
                </a:lnTo>
                <a:lnTo>
                  <a:pt x="18320" y="11467"/>
                </a:lnTo>
                <a:lnTo>
                  <a:pt x="18847" y="11467"/>
                </a:lnTo>
                <a:arcTo wR="10009" hR="21600" stAng="-2934141" swAng="-2381725"/>
                <a:lnTo>
                  <a:pt x="10537" y="30"/>
                </a:lnTo>
                <a:arcTo wR="10009" hR="21600" stAng="-5484134" swAng="-531586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134"/>
                <a:lnTo>
                  <a:pt x="10537" y="30"/>
                </a:lnTo>
                <a:arcTo wR="10009" hR="21600" stAng="-5484134" swAng="-5315866"/>
                <a:close/>
              </a:path>
            </a:pathLst>
          </a:custGeom>
          <a:solidFill>
            <a:srgbClr val="6aac91"/>
          </a:solidFill>
          <a:ln cap="rnd" w="15840">
            <a:solidFill>
              <a:srgbClr val="4c7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Выгнутая вверх стрелка 21"/>
          <p:cNvSpPr/>
          <p:nvPr/>
        </p:nvSpPr>
        <p:spPr>
          <a:xfrm rot="11997600">
            <a:off x="901440" y="4741200"/>
            <a:ext cx="4065480" cy="1090440"/>
          </a:xfrm>
          <a:custGeom>
            <a:avLst/>
            <a:gdLst>
              <a:gd name="textAreaLeft" fmla="*/ 914040 w 4065480"/>
              <a:gd name="textAreaRight" fmla="*/ 3015000 w 4065480"/>
              <a:gd name="textAreaTop" fmla="*/ 145800 h 1090440"/>
              <a:gd name="textAreaBottom" fmla="*/ 944640 h 109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14" hR="21600" stAng="10800000" swAng="5400000"/>
                <a:lnTo>
                  <a:pt x="11163" y="0"/>
                </a:lnTo>
                <a:arcTo wR="9714" hR="21600" stAng="-5400000" swAng="2415021"/>
                <a:lnTo>
                  <a:pt x="20465" y="11467"/>
                </a:lnTo>
                <a:lnTo>
                  <a:pt x="20152" y="21600"/>
                </a:lnTo>
                <a:lnTo>
                  <a:pt x="17568" y="11467"/>
                </a:lnTo>
                <a:lnTo>
                  <a:pt x="18292" y="11467"/>
                </a:lnTo>
                <a:arcTo wR="9714" hR="21600" stAng="-2984979" swAng="-2299435"/>
                <a:lnTo>
                  <a:pt x="10438" y="60"/>
                </a:lnTo>
                <a:arcTo wR="9714" hR="21600" stAng="-5515586" swAng="-5284414"/>
                <a:close/>
              </a:path>
              <a:path fill="darkenLess" w="21600" h="21600">
                <a:moveTo>
                  <a:pt x="0" y="21600"/>
                </a:moveTo>
                <a:arcTo wR="9714" hR="21600" stAng="10800000" swAng="5400000"/>
                <a:lnTo>
                  <a:pt x="9714" y="0"/>
                </a:lnTo>
                <a:arcTo wR="9714" hR="21600" stAng="-5400000" swAng="115586"/>
                <a:lnTo>
                  <a:pt x="10438" y="60"/>
                </a:lnTo>
                <a:arcTo wR="9714" hR="21600" stAng="-5515586" swAng="-5284414"/>
                <a:close/>
              </a:path>
            </a:pathLst>
          </a:custGeom>
          <a:solidFill>
            <a:srgbClr val="6aac91"/>
          </a:solidFill>
          <a:ln cap="rnd" w="15840">
            <a:solidFill>
              <a:srgbClr val="4c7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Box 22"/>
          <p:cNvSpPr/>
          <p:nvPr/>
        </p:nvSpPr>
        <p:spPr>
          <a:xfrm>
            <a:off x="6546240" y="4129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ЛЕКС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TextBox 52"/>
          <p:cNvSpPr/>
          <p:nvPr/>
        </p:nvSpPr>
        <p:spPr>
          <a:xfrm>
            <a:off x="1095120" y="287352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ное доен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TextBox 53"/>
          <p:cNvSpPr/>
          <p:nvPr/>
        </p:nvSpPr>
        <p:spPr>
          <a:xfrm rot="18715800">
            <a:off x="8368200" y="384192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ача данных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TextBox 54"/>
          <p:cNvSpPr/>
          <p:nvPr/>
        </p:nvSpPr>
        <p:spPr>
          <a:xfrm rot="1259400">
            <a:off x="1856880" y="52844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ача данных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TextBox 26"/>
          <p:cNvSpPr/>
          <p:nvPr/>
        </p:nvSpPr>
        <p:spPr>
          <a:xfrm>
            <a:off x="8464320" y="243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абораторны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Стрелка вправо 27"/>
          <p:cNvSpPr/>
          <p:nvPr/>
        </p:nvSpPr>
        <p:spPr>
          <a:xfrm rot="20298000">
            <a:off x="3755880" y="2491920"/>
            <a:ext cx="4319640" cy="486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52" name="Group 4"/>
          <p:cNvGrpSpPr/>
          <p:nvPr/>
        </p:nvGrpSpPr>
        <p:grpSpPr>
          <a:xfrm>
            <a:off x="4262040" y="1772640"/>
            <a:ext cx="2159280" cy="1693440"/>
            <a:chOff x="4262040" y="1772640"/>
            <a:chExt cx="2159280" cy="1693440"/>
          </a:xfrm>
        </p:grpSpPr>
        <p:sp>
          <p:nvSpPr>
            <p:cNvPr id="753" name="AutoShape 3"/>
            <p:cNvSpPr/>
            <p:nvPr/>
          </p:nvSpPr>
          <p:spPr>
            <a:xfrm flipH="1" rot="20224800">
              <a:off x="4387320" y="2103120"/>
              <a:ext cx="19080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4" name="Rectangle 5"/>
            <p:cNvSpPr/>
            <p:nvPr/>
          </p:nvSpPr>
          <p:spPr>
            <a:xfrm flipH="1" rot="20224800">
              <a:off x="5223600" y="2591640"/>
              <a:ext cx="464040" cy="33480"/>
            </a:xfrm>
            <a:prstGeom prst="rect">
              <a:avLst/>
            </a:prstGeom>
            <a:solidFill>
              <a:srgbClr val="00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5" name="Rectangle 6"/>
            <p:cNvSpPr/>
            <p:nvPr/>
          </p:nvSpPr>
          <p:spPr>
            <a:xfrm flipH="1" rot="20224800">
              <a:off x="5223600" y="2591640"/>
              <a:ext cx="464040" cy="33480"/>
            </a:xfrm>
            <a:prstGeom prst="rect">
              <a:avLst/>
            </a:prstGeom>
            <a:noFill/>
            <a:ln cap="rnd" w="27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6" name="Freeform 7"/>
            <p:cNvSpPr/>
            <p:nvPr/>
          </p:nvSpPr>
          <p:spPr>
            <a:xfrm flipH="1" rot="20224800">
              <a:off x="5579280" y="2054520"/>
              <a:ext cx="567000" cy="382680"/>
            </a:xfrm>
            <a:custGeom>
              <a:avLst/>
              <a:gdLst>
                <a:gd name="textAreaLeft" fmla="*/ -360 w 567000"/>
                <a:gd name="textAreaRight" fmla="*/ 567000 w 567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502" h="422">
                  <a:moveTo>
                    <a:pt x="502" y="422"/>
                  </a:moveTo>
                  <a:lnTo>
                    <a:pt x="0" y="422"/>
                  </a:lnTo>
                  <a:lnTo>
                    <a:pt x="0" y="169"/>
                  </a:lnTo>
                  <a:lnTo>
                    <a:pt x="196" y="169"/>
                  </a:lnTo>
                  <a:lnTo>
                    <a:pt x="278" y="0"/>
                  </a:lnTo>
                  <a:lnTo>
                    <a:pt x="502" y="0"/>
                  </a:lnTo>
                  <a:lnTo>
                    <a:pt x="502" y="422"/>
                  </a:lnTo>
                  <a:close/>
                </a:path>
              </a:pathLst>
            </a:custGeom>
            <a:solidFill>
              <a:srgbClr val="00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7" name="Freeform 8"/>
            <p:cNvSpPr/>
            <p:nvPr/>
          </p:nvSpPr>
          <p:spPr>
            <a:xfrm flipH="1" rot="20224800">
              <a:off x="5579280" y="2054520"/>
              <a:ext cx="567000" cy="382680"/>
            </a:xfrm>
            <a:custGeom>
              <a:avLst/>
              <a:gdLst>
                <a:gd name="textAreaLeft" fmla="*/ -360 w 567000"/>
                <a:gd name="textAreaRight" fmla="*/ 567000 w 567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502" h="422">
                  <a:moveTo>
                    <a:pt x="502" y="422"/>
                  </a:moveTo>
                  <a:lnTo>
                    <a:pt x="0" y="422"/>
                  </a:lnTo>
                  <a:lnTo>
                    <a:pt x="0" y="169"/>
                  </a:lnTo>
                  <a:lnTo>
                    <a:pt x="196" y="169"/>
                  </a:lnTo>
                  <a:lnTo>
                    <a:pt x="278" y="0"/>
                  </a:lnTo>
                  <a:lnTo>
                    <a:pt x="502" y="0"/>
                  </a:lnTo>
                  <a:lnTo>
                    <a:pt x="502" y="422"/>
                  </a:lnTo>
                  <a:close/>
                </a:path>
              </a:pathLst>
            </a:custGeom>
            <a:noFill/>
            <a:ln cap="rnd" w="27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8" name="Oval 9"/>
            <p:cNvSpPr/>
            <p:nvPr/>
          </p:nvSpPr>
          <p:spPr>
            <a:xfrm flipH="1" rot="20224800">
              <a:off x="5912280" y="2291040"/>
              <a:ext cx="194400" cy="166680"/>
            </a:xfrm>
            <a:prstGeom prst="ellipse">
              <a:avLst/>
            </a:prstGeom>
            <a:solidFill>
              <a:srgbClr val="0083b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9" name="Oval 10"/>
            <p:cNvSpPr/>
            <p:nvPr/>
          </p:nvSpPr>
          <p:spPr>
            <a:xfrm flipH="1" rot="20224800">
              <a:off x="5912280" y="2291040"/>
              <a:ext cx="194400" cy="166680"/>
            </a:xfrm>
            <a:prstGeom prst="ellipse">
              <a:avLst/>
            </a:prstGeom>
            <a:noFill/>
            <a:ln cap="rnd"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0" name="Rectangle 11"/>
            <p:cNvSpPr/>
            <p:nvPr/>
          </p:nvSpPr>
          <p:spPr>
            <a:xfrm flipH="1" rot="20224800">
              <a:off x="4805640" y="2185560"/>
              <a:ext cx="732240" cy="429840"/>
            </a:xfrm>
            <a:prstGeom prst="rect">
              <a:avLst/>
            </a:prstGeom>
            <a:solidFill>
              <a:srgbClr val="0083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 flipH="1" rot="20224800">
              <a:off x="5430240" y="2494800"/>
              <a:ext cx="194040" cy="166320"/>
            </a:xfrm>
            <a:prstGeom prst="ellipse">
              <a:avLst/>
            </a:prstGeom>
            <a:solidFill>
              <a:srgbClr val="0083b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 flipH="1" rot="20224800">
              <a:off x="5430240" y="2494800"/>
              <a:ext cx="194040" cy="166320"/>
            </a:xfrm>
            <a:prstGeom prst="ellipse">
              <a:avLst/>
            </a:prstGeom>
            <a:noFill/>
            <a:ln cap="rnd"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 flipH="1" rot="20224800">
              <a:off x="5047200" y="2653560"/>
              <a:ext cx="191880" cy="167040"/>
            </a:xfrm>
            <a:prstGeom prst="ellipse">
              <a:avLst/>
            </a:prstGeom>
            <a:solidFill>
              <a:srgbClr val="0083b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4" name="Oval 18"/>
            <p:cNvSpPr/>
            <p:nvPr/>
          </p:nvSpPr>
          <p:spPr>
            <a:xfrm flipH="1" rot="20224800">
              <a:off x="5042520" y="2653920"/>
              <a:ext cx="194040" cy="166320"/>
            </a:xfrm>
            <a:prstGeom prst="ellipse">
              <a:avLst/>
            </a:prstGeom>
            <a:noFill/>
            <a:ln cap="rnd"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65" name="Выгнутая вверх стрелка 41"/>
          <p:cNvSpPr/>
          <p:nvPr/>
        </p:nvSpPr>
        <p:spPr>
          <a:xfrm rot="20410800">
            <a:off x="379440" y="882360"/>
            <a:ext cx="7780320" cy="1168200"/>
          </a:xfrm>
          <a:custGeom>
            <a:avLst/>
            <a:gdLst>
              <a:gd name="textAreaLeft" fmla="*/ 1835640 w 7780320"/>
              <a:gd name="textAreaRight" fmla="*/ 5798520 w 7780320"/>
              <a:gd name="textAreaTop" fmla="*/ 156240 h 1168200"/>
              <a:gd name="textAreaBottom" fmla="*/ 1011960 h 116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92" hR="21600" stAng="10800000" swAng="5400000"/>
                <a:lnTo>
                  <a:pt x="11002" y="0"/>
                </a:lnTo>
                <a:arcTo wR="10192" hR="21600" stAng="-5400000" swAng="2733761"/>
                <a:lnTo>
                  <a:pt x="20658" y="12530"/>
                </a:lnTo>
                <a:lnTo>
                  <a:pt x="20789" y="21600"/>
                </a:lnTo>
                <a:lnTo>
                  <a:pt x="19036" y="12530"/>
                </a:lnTo>
                <a:lnTo>
                  <a:pt x="19442" y="12530"/>
                </a:lnTo>
                <a:arcTo wR="10192" hR="21600" stAng="-2666239" swAng="-2669260"/>
                <a:lnTo>
                  <a:pt x="10597" y="17"/>
                </a:lnTo>
                <a:arcTo wR="10192" hR="21600" stAng="-5464501" swAng="-5335499"/>
                <a:close/>
              </a:path>
              <a:path fill="darkenLess" w="21600" h="21600">
                <a:moveTo>
                  <a:pt x="0" y="21600"/>
                </a:moveTo>
                <a:arcTo wR="10192" hR="21600" stAng="10800000" swAng="5400000"/>
                <a:lnTo>
                  <a:pt x="10192" y="0"/>
                </a:lnTo>
                <a:arcTo wR="10192" hR="21600" stAng="-5400000" swAng="64501"/>
                <a:lnTo>
                  <a:pt x="10597" y="17"/>
                </a:lnTo>
                <a:arcTo wR="10192" hR="21600" stAng="-5464501" swAng="-5335499"/>
                <a:close/>
              </a:path>
            </a:pathLst>
          </a:custGeom>
          <a:solidFill>
            <a:srgbClr val="6aac91"/>
          </a:solidFill>
          <a:ln cap="rnd" w="15840">
            <a:solidFill>
              <a:srgbClr val="4c7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 rot="20443800">
            <a:off x="2922120" y="539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ача данных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DSC_0102_lfapboqo"/>
          <p:cNvPicPr/>
          <p:nvPr/>
        </p:nvPicPr>
        <p:blipFill>
          <a:blip r:embed="rId1"/>
          <a:srcRect l="0" t="0" r="0" b="13991"/>
          <a:stretch/>
        </p:blipFill>
        <p:spPr>
          <a:xfrm>
            <a:off x="0" y="-142920"/>
            <a:ext cx="1219212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69" name="TextBox 1"/>
          <p:cNvSpPr/>
          <p:nvPr/>
        </p:nvSpPr>
        <p:spPr>
          <a:xfrm>
            <a:off x="4071960" y="74448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0" name="Picture 42" descr=""/>
          <p:cNvPicPr/>
          <p:nvPr/>
        </p:nvPicPr>
        <p:blipFill>
          <a:blip r:embed="rId2"/>
          <a:stretch/>
        </p:blipFill>
        <p:spPr>
          <a:xfrm>
            <a:off x="0" y="0"/>
            <a:ext cx="115063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8658471d05947c1c54fe8f798f65"/>
          <p:cNvPicPr/>
          <p:nvPr/>
        </p:nvPicPr>
        <p:blipFill>
          <a:blip r:embed="rId1"/>
          <a:srcRect l="10769" t="6201" r="13411" b="722"/>
          <a:stretch/>
        </p:blipFill>
        <p:spPr>
          <a:xfrm>
            <a:off x="4068720" y="1868400"/>
            <a:ext cx="1500120" cy="14083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8658471d05947c1c54fe8f798f65"/>
          <p:cNvPicPr/>
          <p:nvPr/>
        </p:nvPicPr>
        <p:blipFill>
          <a:blip r:embed="rId2"/>
          <a:srcRect l="10769" t="6201" r="13411" b="722"/>
          <a:stretch/>
        </p:blipFill>
        <p:spPr>
          <a:xfrm>
            <a:off x="3024360" y="1868400"/>
            <a:ext cx="1511280" cy="14194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"/>
          <p:cNvPicPr/>
          <p:nvPr/>
        </p:nvPicPr>
        <p:blipFill>
          <a:blip r:embed="rId3"/>
          <a:srcRect l="6100" t="0" r="0" b="0"/>
          <a:stretch/>
        </p:blipFill>
        <p:spPr>
          <a:xfrm>
            <a:off x="8075520" y="2448000"/>
            <a:ext cx="911160" cy="15174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" descr=""/>
          <p:cNvPicPr/>
          <p:nvPr/>
        </p:nvPicPr>
        <p:blipFill>
          <a:blip r:embed="rId4"/>
          <a:srcRect l="6100" t="0" r="0" b="0"/>
          <a:stretch/>
        </p:blipFill>
        <p:spPr>
          <a:xfrm>
            <a:off x="6381720" y="1932120"/>
            <a:ext cx="878040" cy="14619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5"/>
          <a:srcRect l="6100" t="0" r="0" b="0"/>
          <a:stretch/>
        </p:blipFill>
        <p:spPr>
          <a:xfrm>
            <a:off x="7164360" y="2168640"/>
            <a:ext cx="911160" cy="15066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" descr=""/>
          <p:cNvPicPr/>
          <p:nvPr/>
        </p:nvPicPr>
        <p:blipFill>
          <a:blip r:embed="rId6"/>
          <a:stretch/>
        </p:blipFill>
        <p:spPr>
          <a:xfrm>
            <a:off x="7486560" y="4332240"/>
            <a:ext cx="1230480" cy="671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" descr=""/>
          <p:cNvPicPr/>
          <p:nvPr/>
        </p:nvPicPr>
        <p:blipFill>
          <a:blip r:embed="rId7"/>
          <a:stretch/>
        </p:blipFill>
        <p:spPr>
          <a:xfrm>
            <a:off x="6224760" y="4341960"/>
            <a:ext cx="1263600" cy="6616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1" descr=""/>
          <p:cNvPicPr/>
          <p:nvPr/>
        </p:nvPicPr>
        <p:blipFill>
          <a:blip r:embed="rId8"/>
          <a:srcRect l="12502" t="12865" r="17861" b="6202"/>
          <a:stretch/>
        </p:blipFill>
        <p:spPr>
          <a:xfrm>
            <a:off x="2046240" y="5294160"/>
            <a:ext cx="2214720" cy="14464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2" descr=""/>
          <p:cNvPicPr/>
          <p:nvPr/>
        </p:nvPicPr>
        <p:blipFill>
          <a:blip r:embed="rId9"/>
          <a:srcRect l="0" t="0" r="15873" b="4437"/>
          <a:stretch/>
        </p:blipFill>
        <p:spPr>
          <a:xfrm>
            <a:off x="4287960" y="5294160"/>
            <a:ext cx="2260440" cy="14464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wb_ezi_test"/>
          <p:cNvPicPr/>
          <p:nvPr/>
        </p:nvPicPr>
        <p:blipFill>
          <a:blip r:embed="rId10"/>
          <a:stretch/>
        </p:blipFill>
        <p:spPr>
          <a:xfrm>
            <a:off x="10396440" y="2568600"/>
            <a:ext cx="1706760" cy="348444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4"/>
          <p:cNvSpPr/>
          <p:nvPr/>
        </p:nvSpPr>
        <p:spPr>
          <a:xfrm>
            <a:off x="1195560" y="123840"/>
            <a:ext cx="10058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ополнительные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ксессуар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2075040" y="3330720"/>
            <a:ext cx="447660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Консервант молока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охраняет пробы молока до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0 дней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7688160" y="2384280"/>
            <a:ext cx="4476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ластиковые стаканчик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 2-м дном для электронной метк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021280" y="4259160"/>
            <a:ext cx="447840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FID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метк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2023920" y="5294160"/>
            <a:ext cx="44769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Транспортировочные штативы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707160" y="6278400"/>
            <a:ext cx="447660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Устройство зоотехнического учета молока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Модель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ASY TES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Новая Зеландия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87" name="Рисунок 5" descr=""/>
          <p:cNvPicPr/>
          <p:nvPr/>
        </p:nvPicPr>
        <p:blipFill>
          <a:blip r:embed="rId11"/>
          <a:srcRect l="0" t="2564" r="0" b="6201"/>
          <a:stretch/>
        </p:blipFill>
        <p:spPr>
          <a:xfrm>
            <a:off x="9342360" y="4132440"/>
            <a:ext cx="1166760" cy="125388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22" descr=""/>
          <p:cNvPicPr/>
          <p:nvPr/>
        </p:nvPicPr>
        <p:blipFill>
          <a:blip r:embed="rId12"/>
          <a:stretch/>
        </p:blipFill>
        <p:spPr>
          <a:xfrm>
            <a:off x="9907560" y="139680"/>
            <a:ext cx="2124000" cy="895320"/>
          </a:xfrm>
          <a:prstGeom prst="rect">
            <a:avLst/>
          </a:prstGeom>
          <a:ln w="0">
            <a:noFill/>
          </a:ln>
        </p:spPr>
      </p:pic>
      <p:pic>
        <p:nvPicPr>
          <p:cNvPr id="789" name="Рисунок 1" descr=""/>
          <p:cNvPicPr/>
          <p:nvPr/>
        </p:nvPicPr>
        <p:blipFill>
          <a:blip r:embed="rId13"/>
          <a:stretch/>
        </p:blipFill>
        <p:spPr>
          <a:xfrm>
            <a:off x="1306440" y="3743280"/>
            <a:ext cx="1513080" cy="113508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4"/>
          <p:cNvSpPr/>
          <p:nvPr/>
        </p:nvSpPr>
        <p:spPr>
          <a:xfrm>
            <a:off x="1252440" y="4194000"/>
            <a:ext cx="448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Смартфон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 программным     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еспечением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5"/>
          <p:cNvSpPr/>
          <p:nvPr/>
        </p:nvSpPr>
        <p:spPr>
          <a:xfrm>
            <a:off x="914400" y="500040"/>
            <a:ext cx="1026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2" name="Picture 14" descr="ÐÑÑÐµÑ Ð¾ Ð´ÐµÑÑÐµÐ»ÑÐ½Ð¾ÑÑÐ¸ ÑÐ¸ÑÐ¼Ñ Ð¨Ð°Ð±Ð»Ð¾Ð½Ñ Ð¿ÑÐµÐ·ÐµÐ½ÑÐ°ÑÐ¸Ð¹ PowerPoint"/>
          <p:cNvPicPr/>
          <p:nvPr/>
        </p:nvPicPr>
        <p:blipFill>
          <a:blip r:embed="rId1"/>
          <a:srcRect l="0" t="12159" r="0" b="0"/>
          <a:stretch/>
        </p:blipFill>
        <p:spPr>
          <a:xfrm>
            <a:off x="-31680" y="0"/>
            <a:ext cx="12223800" cy="685800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5" descr="11111.jpg"/>
          <p:cNvPicPr/>
          <p:nvPr/>
        </p:nvPicPr>
        <p:blipFill>
          <a:blip r:embed="rId2"/>
          <a:stretch/>
        </p:blipFill>
        <p:spPr>
          <a:xfrm>
            <a:off x="476280" y="-30240"/>
            <a:ext cx="2211480" cy="1639800"/>
          </a:xfrm>
          <a:prstGeom prst="rect">
            <a:avLst/>
          </a:prstGeom>
          <a:ln w="0">
            <a:noFill/>
          </a:ln>
        </p:spPr>
      </p:pic>
      <p:pic>
        <p:nvPicPr>
          <p:cNvPr id="794" name="Object 5" descr=""/>
          <p:cNvPicPr/>
          <p:nvPr/>
        </p:nvPicPr>
        <p:blipFill>
          <a:blip r:embed="rId3"/>
          <a:stretch/>
        </p:blipFill>
        <p:spPr>
          <a:xfrm>
            <a:off x="2639880" y="-3240"/>
            <a:ext cx="6529680" cy="686124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sp>
        <p:nvSpPr>
          <p:cNvPr id="795" name="Прямоугольник 8"/>
          <p:cNvSpPr/>
          <p:nvPr/>
        </p:nvSpPr>
        <p:spPr>
          <a:xfrm>
            <a:off x="2927520" y="1052640"/>
            <a:ext cx="5951520" cy="50472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6" name="Прямоугольник 9"/>
          <p:cNvSpPr/>
          <p:nvPr/>
        </p:nvSpPr>
        <p:spPr>
          <a:xfrm>
            <a:off x="3214800" y="6093000"/>
            <a:ext cx="2208240" cy="14436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7" name="Прямоугольник 10"/>
          <p:cNvSpPr/>
          <p:nvPr/>
        </p:nvSpPr>
        <p:spPr>
          <a:xfrm>
            <a:off x="8015400" y="1844640"/>
            <a:ext cx="1152360" cy="482436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8" name="Прямоугольник 11"/>
          <p:cNvSpPr/>
          <p:nvPr/>
        </p:nvSpPr>
        <p:spPr>
          <a:xfrm>
            <a:off x="6864480" y="6021360"/>
            <a:ext cx="1249200" cy="64764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14" descr="ÐÑÑÐµÑ Ð¾ Ð´ÐµÑÑÐµÐ»ÑÐ½Ð¾ÑÑÐ¸ ÑÐ¸ÑÐ¼Ñ Ð¨Ð°Ð±Ð»Ð¾Ð½Ñ Ð¿ÑÐµÐ·ÐµÐ½ÑÐ°ÑÐ¸Ð¹ PowerPoint"/>
          <p:cNvPicPr/>
          <p:nvPr/>
        </p:nvPicPr>
        <p:blipFill>
          <a:blip r:embed="rId1"/>
          <a:stretch/>
        </p:blipFill>
        <p:spPr>
          <a:xfrm>
            <a:off x="-39600" y="0"/>
            <a:ext cx="12223800" cy="68864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4"/>
          <p:cNvSpPr/>
          <p:nvPr/>
        </p:nvSpPr>
        <p:spPr>
          <a:xfrm>
            <a:off x="527040" y="195120"/>
            <a:ext cx="3048120" cy="265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тивны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аждому хозяйству 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 региону в целом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01" name="Рисунок 9" descr=""/>
          <p:cNvPicPr/>
          <p:nvPr/>
        </p:nvPicPr>
        <p:blipFill>
          <a:blip r:embed="rId2"/>
          <a:stretch/>
        </p:blipFill>
        <p:spPr>
          <a:xfrm>
            <a:off x="3651120" y="195120"/>
            <a:ext cx="7770960" cy="6546960"/>
          </a:xfrm>
          <a:prstGeom prst="rect">
            <a:avLst/>
          </a:prstGeom>
          <a:ln w="38160">
            <a:solidFill>
              <a:srgbClr val="92d050"/>
            </a:solidFill>
            <a:miter/>
          </a:ln>
        </p:spPr>
      </p:pic>
      <p:sp>
        <p:nvSpPr>
          <p:cNvPr id="802" name="Прямоугольник 1"/>
          <p:cNvSpPr/>
          <p:nvPr/>
        </p:nvSpPr>
        <p:spPr>
          <a:xfrm>
            <a:off x="6095880" y="260280"/>
            <a:ext cx="3168720" cy="57636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3" name="Прямоугольник 2"/>
          <p:cNvSpPr/>
          <p:nvPr/>
        </p:nvSpPr>
        <p:spPr>
          <a:xfrm>
            <a:off x="7488360" y="1413000"/>
            <a:ext cx="384120" cy="14436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805" name="TextBox 1"/>
          <p:cNvSpPr/>
          <p:nvPr/>
        </p:nvSpPr>
        <p:spPr>
          <a:xfrm>
            <a:off x="1874880" y="744480"/>
            <a:ext cx="10317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Региональное субсидирование селекционных мероприятий в племенном животноводстве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Arial"/>
              </a:rPr>
              <a:t>на проведение контрольных доек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Arial"/>
              </a:rPr>
              <a:t>в племенных хозяйствах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Arial"/>
              </a:rPr>
              <a:t>в базовых хозяйствах, работающие с СЭЛЕКСом и  где открыты пункты проверки быков по качеству потомства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з расчета 600 руб. на корову за полугодие (на 01.01 и на 01.07.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1"/>
          <p:cNvSpPr/>
          <p:nvPr/>
        </p:nvSpPr>
        <p:spPr>
          <a:xfrm>
            <a:off x="1003320" y="2414520"/>
            <a:ext cx="10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07" name="Группа 39"/>
          <p:cNvGrpSpPr/>
          <p:nvPr/>
        </p:nvGrpSpPr>
        <p:grpSpPr>
          <a:xfrm>
            <a:off x="3769560" y="3157200"/>
            <a:ext cx="4403880" cy="3171600"/>
            <a:chOff x="3769560" y="3157200"/>
            <a:chExt cx="4403880" cy="3171600"/>
          </a:xfrm>
        </p:grpSpPr>
        <p:pic>
          <p:nvPicPr>
            <p:cNvPr id="808" name="Рисунок 36" descr=""/>
            <p:cNvPicPr/>
            <p:nvPr/>
          </p:nvPicPr>
          <p:blipFill>
            <a:blip r:embed="rId1"/>
            <a:stretch/>
          </p:blipFill>
          <p:spPr>
            <a:xfrm rot="585000">
              <a:off x="6319800" y="3423600"/>
              <a:ext cx="1631880" cy="275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Рисунок 37" descr=""/>
            <p:cNvPicPr/>
            <p:nvPr/>
          </p:nvPicPr>
          <p:blipFill>
            <a:blip r:embed="rId2"/>
            <a:stretch/>
          </p:blipFill>
          <p:spPr>
            <a:xfrm rot="20235600">
              <a:off x="4238280" y="3365280"/>
              <a:ext cx="1631880" cy="275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Рисунок 38" descr=""/>
            <p:cNvPicPr/>
            <p:nvPr/>
          </p:nvPicPr>
          <p:blipFill>
            <a:blip r:embed="rId3"/>
            <a:stretch/>
          </p:blipFill>
          <p:spPr>
            <a:xfrm rot="474600">
              <a:off x="5321520" y="3474720"/>
              <a:ext cx="1631880" cy="275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812" name="TextBox 1"/>
          <p:cNvSpPr/>
          <p:nvPr/>
        </p:nvSpPr>
        <p:spPr>
          <a:xfrm>
            <a:off x="4071960" y="7444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щщщш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957320" y="1947960"/>
          <a:ext cx="8128080" cy="148428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  <a:gridCol w="1625400"/>
                <a:gridCol w="1625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05" name="TextBox 1"/>
          <p:cNvSpPr/>
          <p:nvPr/>
        </p:nvSpPr>
        <p:spPr>
          <a:xfrm>
            <a:off x="2471760" y="582480"/>
            <a:ext cx="92581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цепция развития молочного животноводства Российской Федерации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еспечить к 2024 году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изводство молока на уровне 35 млн тонн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 регионах РФ удой на корову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менее 7000 кг молока за год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 стадам племенных заводов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менее 9000 кг молока на корову за год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Прямоугольник 4"/>
          <p:cNvSpPr/>
          <p:nvPr/>
        </p:nvSpPr>
        <p:spPr>
          <a:xfrm>
            <a:off x="614520" y="625320"/>
            <a:ext cx="112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и работы региона за 2018 год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1731960" y="1623960"/>
          <a:ext cx="10217160" cy="3772080"/>
        </p:xfrm>
        <a:graphic>
          <a:graphicData uri="http://schemas.openxmlformats.org/drawingml/2006/table">
            <a:tbl>
              <a:tblPr/>
              <a:tblGrid>
                <a:gridCol w="3406680"/>
                <a:gridCol w="3403800"/>
                <a:gridCol w="3406680"/>
              </a:tblGrid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По области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По племенным хозяйствам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Удой на 1 корову, кг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 999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 760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Выход телят, %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0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2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Охват КРС , %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Заголовок 1"/>
          <p:cNvSpPr/>
          <p:nvPr/>
        </p:nvSpPr>
        <p:spPr>
          <a:xfrm>
            <a:off x="385920" y="146160"/>
            <a:ext cx="11021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 Gothic"/>
                <a:ea typeface="Calibri"/>
              </a:rPr>
              <a:t>На базе Арх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Calibri"/>
              </a:rPr>
              <a:t>ангельского </a:t>
            </a:r>
            <a:r>
              <a:rPr b="1" lang="ru-RU" sz="2800" spc="-1" strike="noStrike">
                <a:solidFill>
                  <a:srgbClr val="0033cc"/>
                </a:solidFill>
                <a:latin typeface="Century Gothic"/>
                <a:ea typeface="Calibri"/>
              </a:rPr>
              <a:t>НИИ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Calibri"/>
              </a:rPr>
              <a:t> сельского хозяйства работае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58800" y="1333440"/>
          <a:ext cx="11228400" cy="2981520"/>
        </p:xfrm>
        <a:graphic>
          <a:graphicData uri="http://schemas.openxmlformats.org/drawingml/2006/table">
            <a:tbl>
              <a:tblPr/>
              <a:tblGrid>
                <a:gridCol w="3419640"/>
                <a:gridCol w="3487680"/>
                <a:gridCol w="4321080"/>
              </a:tblGrid>
              <a:tr h="1144800">
                <a:tc gridSpan="3"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3010"/>
                          </a:solidFill>
                          <a:latin typeface="Century Gothic"/>
                        </a:rPr>
                        <a:t>Региональный информационно-селекционный центр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3010"/>
                          </a:solidFill>
                          <a:latin typeface="Century Gothic"/>
                        </a:rPr>
                        <a:t>по животноводству </a:t>
                      </a:r>
                      <a:r>
                        <a:rPr b="1" lang="ru-RU" sz="2000" spc="-1" strike="noStrike">
                          <a:solidFill>
                            <a:srgbClr val="a53010"/>
                          </a:solidFill>
                          <a:latin typeface="Century Gothic"/>
                          <a:ea typeface="Calibri"/>
                        </a:rPr>
                        <a:t>(РИСЦ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cc9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720"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боратория селекции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960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боратория иммуногенетики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960"/>
                    </a:solidFill>
                  </a:tcPr>
                </a:tc>
                <a:tc>
                  <a:txBody>
                    <a:bodyPr lIns="32760" rIns="32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боратория селекционного качества молок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960"/>
                    </a:solidFill>
                  </a:tcPr>
                </a:tc>
              </a:tr>
            </a:tbl>
          </a:graphicData>
        </a:graphic>
      </p:graphicFrame>
      <p:pic>
        <p:nvPicPr>
          <p:cNvPr id="710" name="Объект 8" descr=""/>
          <p:cNvPicPr/>
          <p:nvPr/>
        </p:nvPicPr>
        <p:blipFill>
          <a:blip r:embed="rId1"/>
          <a:stretch/>
        </p:blipFill>
        <p:spPr>
          <a:xfrm>
            <a:off x="1212840" y="4387680"/>
            <a:ext cx="2049480" cy="2470320"/>
          </a:xfrm>
          <a:prstGeom prst="rect">
            <a:avLst/>
          </a:prstGeom>
          <a:ln w="0">
            <a:noFill/>
          </a:ln>
        </p:spPr>
      </p:pic>
      <p:pic>
        <p:nvPicPr>
          <p:cNvPr id="711" name="Объект 9" descr=""/>
          <p:cNvPicPr/>
          <p:nvPr/>
        </p:nvPicPr>
        <p:blipFill>
          <a:blip r:embed="rId2"/>
          <a:stretch/>
        </p:blipFill>
        <p:spPr>
          <a:xfrm>
            <a:off x="4832280" y="4387680"/>
            <a:ext cx="2129040" cy="2470320"/>
          </a:xfrm>
          <a:prstGeom prst="rect">
            <a:avLst/>
          </a:prstGeom>
          <a:ln w="0">
            <a:noFill/>
          </a:ln>
        </p:spPr>
      </p:pic>
      <p:pic>
        <p:nvPicPr>
          <p:cNvPr id="712" name="Рисунок 10" descr=""/>
          <p:cNvPicPr/>
          <p:nvPr/>
        </p:nvPicPr>
        <p:blipFill>
          <a:blip r:embed="rId3"/>
          <a:stretch/>
        </p:blipFill>
        <p:spPr>
          <a:xfrm>
            <a:off x="8786880" y="4386240"/>
            <a:ext cx="21304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39800" y="328320"/>
            <a:ext cx="1108872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учшее племенное хозяйство регион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емрепродуктор ООО «Пежма» Вельского района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 600 коров с удоем на корову 10 103 кг молок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871280" y="1821960"/>
            <a:ext cx="1013004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Лучшая корова по удою за 305 дней лактаци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Фитома 2467  4 – 14 859 – 3,99 – 2,99 – 651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Лучшая корова по пожизненной продуктивност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Репина 3203    11 лактаций – 98 136 – 3,97 – 3,21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                                                           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1"/>
          <p:cNvSpPr/>
          <p:nvPr/>
        </p:nvSpPr>
        <p:spPr>
          <a:xfrm>
            <a:off x="1344600" y="343080"/>
            <a:ext cx="10328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езультаты оценки быков за 2018 год  </a:t>
            </a:r>
            <a:r>
              <a:rPr b="1" i="1" lang="ru-RU" sz="1200" spc="-1" strike="noStrike">
                <a:solidFill>
                  <a:srgbClr val="d9d9d9"/>
                </a:solidFill>
                <a:latin typeface="Arial"/>
              </a:rPr>
              <a:t>(инф. материал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343080" y="1185840"/>
          <a:ext cx="11849040" cy="5634000"/>
        </p:xfrm>
        <a:graphic>
          <a:graphicData uri="http://schemas.openxmlformats.org/drawingml/2006/table">
            <a:tbl>
              <a:tblPr/>
              <a:tblGrid>
                <a:gridCol w="2314440"/>
                <a:gridCol w="957240"/>
                <a:gridCol w="1014480"/>
                <a:gridCol w="979560"/>
                <a:gridCol w="1317600"/>
                <a:gridCol w="1315800"/>
                <a:gridCol w="1316160"/>
                <a:gridCol w="1317600"/>
                <a:gridCol w="1316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Бык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Arial"/>
                        </a:rPr>
                        <a:t>(аттестовано 470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Лини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Стадо селекции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Кров</a:t>
                      </a: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ность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Хозяйств оценки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Эффект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дочер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ПЦ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удо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ПЦ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% жир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ПЦ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ee6e4b"/>
                          </a:solidFill>
                          <a:latin typeface="Century Gothic"/>
                        </a:rPr>
                        <a:t>% белк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. Набор 62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8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3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2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62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620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0,0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2. Рокот 226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0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8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73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9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154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7. Цеховик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556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0113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4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69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101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0,07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9. Черкес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*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257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8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4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78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1047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7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0,0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1. Орфей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54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0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1814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66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2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426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+ 52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1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- 0,0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Рисунок 3" descr=""/>
          <p:cNvPicPr/>
          <p:nvPr/>
        </p:nvPicPr>
        <p:blipFill>
          <a:blip r:embed="rId1"/>
          <a:stretch/>
        </p:blipFill>
        <p:spPr>
          <a:xfrm>
            <a:off x="741240" y="17784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"/>
          <p:cNvSpPr/>
          <p:nvPr/>
        </p:nvSpPr>
        <p:spPr>
          <a:xfrm>
            <a:off x="3414600" y="250920"/>
            <a:ext cx="70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ческий паспорт предприятия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414520" y="838080"/>
          <a:ext cx="8129520" cy="5645160"/>
        </p:xfrm>
        <a:graphic>
          <a:graphicData uri="http://schemas.openxmlformats.org/drawingml/2006/table">
            <a:tbl>
              <a:tblPr/>
              <a:tblGrid>
                <a:gridCol w="5058000"/>
                <a:gridCol w="30715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атели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начение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овой удой на корову, кг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 00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ивая масса, коров стада, кг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2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тел коров за год, %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тел нетелей за год, %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ость использования коров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4,0 лакт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зраст телок при 1 осеменении, дней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 высоте в холке, см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7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живой массой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а собственной заготовки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Э от 9,5 МДж,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27% клетчатка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Рисунок 3" descr=""/>
          <p:cNvPicPr/>
          <p:nvPr/>
        </p:nvPicPr>
        <p:blipFill>
          <a:blip r:embed="rId1"/>
          <a:stretch/>
        </p:blipFill>
        <p:spPr>
          <a:xfrm>
            <a:off x="11271240" y="200160"/>
            <a:ext cx="603360" cy="1017360"/>
          </a:xfrm>
          <a:prstGeom prst="rect">
            <a:avLst/>
          </a:prstGeom>
          <a:ln w="0">
            <a:noFill/>
          </a:ln>
        </p:spPr>
      </p:pic>
      <p:sp>
        <p:nvSpPr>
          <p:cNvPr id="722" name="TextBox 1"/>
          <p:cNvSpPr/>
          <p:nvPr/>
        </p:nvSpPr>
        <p:spPr>
          <a:xfrm>
            <a:off x="2006640" y="1231920"/>
            <a:ext cx="817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леменная работа – ЭТО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режде всего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У ч ё 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 о н т р о л ь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Рисунок 3" descr=""/>
          <p:cNvPicPr/>
          <p:nvPr/>
        </p:nvPicPr>
        <p:blipFill>
          <a:blip r:embed="rId1"/>
          <a:stretch/>
        </p:blipFill>
        <p:spPr>
          <a:xfrm>
            <a:off x="361800" y="225360"/>
            <a:ext cx="603360" cy="10177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1"/>
          <p:cNvSpPr/>
          <p:nvPr/>
        </p:nvSpPr>
        <p:spPr>
          <a:xfrm>
            <a:off x="1155600" y="585720"/>
            <a:ext cx="105919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ведение контрольного доения коров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ЦЕНА ВОПРОСА 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a5301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на организацию и проведение контрольного доения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a5301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доставку проб молока в лабораторию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a5301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стоимость лабораторных исследований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a5301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3010"/>
                </a:solidFill>
                <a:latin typeface="Arial"/>
              </a:rPr>
              <a:t>обработка и хранение информации о качестве молока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a5301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_______________________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480 руб. на корову в год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50:27Z</dcterms:created>
  <dc:creator>v.prozherin</dc:creator>
  <dc:description/>
  <dc:language>en-US</dc:language>
  <cp:lastModifiedBy>g.prozherina</cp:lastModifiedBy>
  <dcterms:modified xsi:type="dcterms:W3CDTF">2019-02-27T11:56:37Z</dcterms:modified>
  <cp:revision>393</cp:revision>
  <dc:subject/>
  <dc:title>Презентация PowerPoint</dc:title>
</cp:coreProperties>
</file>