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AA9E-81DA-4A49-8A67-DBF2E72F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5B7-75F6-4A77-938D-CC1D5ABF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57B-17DA-4023-AF8C-4C6D208C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7DF-C41D-4684-98BC-6D3C94FB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0A49-2617-434C-A02E-FF9FF9DD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A34A-53F8-4007-A138-3686401F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F7CE-DE16-4420-ACD6-D43D8B88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D6BC-0808-4994-829C-0A48EBD9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7753-85DA-4939-AC6B-F7D60311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2B53-CA0A-40EC-839B-20FC6E8F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4BE8-3787-45E1-A756-9DEBFDE4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71D-3A29-4C7B-A342-266149A1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4D15-CF30-483A-A15D-22B4399E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169C-7A65-4793-A000-BBD9D6BF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4047-42FE-45E6-A627-69498C32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B8A5-47F4-4106-A3A0-AB11C15B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0D6F-FAED-4C80-B6BD-4C7769A9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017C-CF4A-4777-BC4D-ACA71879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F76-04F9-4999-8CFE-1CC84EA8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7929-48AD-44F5-AE33-3D1283A6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48E2-3255-4B9B-BBE6-5F9C2496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737-68D3-4AEA-829F-C8CF3961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77B-CEF7-41EE-A8CF-CC39CCBD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B524-D7C6-458C-82E8-43ED30D3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3F82-8D35-4A51-AB63-A00964D7C9D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1120-9405-49E5-B59B-D5F391A199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40FE-A206-475E-8003-BB18DE3EA9D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4E16-C339-40CC-9886-90E155D41F1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71520" y="1857240"/>
            <a:ext cx="58719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ЛЬ А.С. ЕМЕЛЬЯНО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ОВЕРШЕНСТВОВАНИИ ХОЛМОГОРСКОЙ ПОРОДЫ КРУПНОГО РОГАТОГО СКОТА СЕВЕРО-ЗАПАДНОГО РЕГИО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ова Галина Сергеев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научный сотрудник отдела разведения сельскохозяйственных животных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биологических нау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1E9C-97E0-44D3-AD19-D043E49272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емельянов"/>
          <p:cNvPicPr/>
          <p:nvPr/>
        </p:nvPicPr>
        <p:blipFill>
          <a:blip r:embed="rId1"/>
          <a:stretch/>
        </p:blipFill>
        <p:spPr>
          <a:xfrm>
            <a:off x="142920" y="1357200"/>
            <a:ext cx="29289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F32C-954D-48C1-9367-0F73786C19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\\Razvedenie\share\2019\ЕмельяновЧтения\P8qStewMfWU.jpg"/>
          <p:cNvPicPr/>
          <p:nvPr/>
        </p:nvPicPr>
        <p:blipFill>
          <a:blip r:embed="rId1"/>
          <a:stretch/>
        </p:blipFill>
        <p:spPr>
          <a:xfrm>
            <a:off x="0" y="1143000"/>
            <a:ext cx="90201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DE71-A98B-496F-85A3-BFBD18D545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8" descr=""/>
          <p:cNvPicPr/>
          <p:nvPr/>
        </p:nvPicPr>
        <p:blipFill>
          <a:blip r:embed="rId1"/>
          <a:stretch/>
        </p:blipFill>
        <p:spPr>
          <a:xfrm>
            <a:off x="5214960" y="1785960"/>
            <a:ext cx="3571920" cy="28065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8"/>
          <p:cNvSpPr/>
          <p:nvPr/>
        </p:nvSpPr>
        <p:spPr>
          <a:xfrm>
            <a:off x="214200" y="1643040"/>
            <a:ext cx="4714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ротяжении 45-летней трудовой деятельности на Вологодской земле Алексей Степанович направляет усилия большого коллектива научных работников на разработку важнейших проблем развития молочного животновод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лугопастбищного хозяйства в сельхозпредприятиях Северо-Запада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0080" y="981000"/>
            <a:ext cx="868356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и продуктивность коров хозяйств всех категорий по год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5BA9-1288-4E3F-B6C4-B1A9EE63A1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28760" y="1500120"/>
          <a:ext cx="8429400" cy="4394160"/>
        </p:xfrm>
        <a:graphic>
          <a:graphicData uri="http://schemas.openxmlformats.org/drawingml/2006/table">
            <a:tbl>
              <a:tblPr/>
              <a:tblGrid>
                <a:gridCol w="1234800"/>
                <a:gridCol w="1090800"/>
                <a:gridCol w="631800"/>
                <a:gridCol w="517680"/>
                <a:gridCol w="1025280"/>
                <a:gridCol w="642960"/>
                <a:gridCol w="571680"/>
                <a:gridCol w="969840"/>
                <a:gridCol w="654120"/>
                <a:gridCol w="509400"/>
                <a:gridCol w="581040"/>
              </a:tblGrid>
              <a:tr h="287280">
                <a:tc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бъекты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 ко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ыс. г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дой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р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 ко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ыс. г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дой, 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р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 ко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ыс. г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дой, 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р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лок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хангель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логод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спублика Карел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спублика Ко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нинград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6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рман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8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нецкий  А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ЗФ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ссийская Феде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7,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56800" y="856800"/>
            <a:ext cx="782964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трудники отдела разведения СЗНИИМЛПХ –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особленного подразделения   ФГБУН ВолНЦ Р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1501-CA30-4F4D-9AFD-518976283D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928800" y="1500120"/>
            <a:ext cx="75722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62F1-3705-46D3-B693-3C0633C031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655560" y="1357200"/>
            <a:ext cx="8001000" cy="44262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785880" y="857160"/>
            <a:ext cx="81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ое стадо коров холмогорской породы крупного  рогатого ск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хангель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3889-5434-4C7D-8CAF-DEDB0D2D03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4" descr=""/>
          <p:cNvPicPr/>
          <p:nvPr/>
        </p:nvPicPr>
        <p:blipFill>
          <a:blip r:embed="rId1"/>
          <a:stretch/>
        </p:blipFill>
        <p:spPr>
          <a:xfrm>
            <a:off x="665280" y="390600"/>
            <a:ext cx="8485200" cy="1109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857160" y="1428840"/>
            <a:ext cx="77868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86F5-27D9-457F-944F-591F90722F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55520" y="-1195560"/>
            <a:ext cx="1752480" cy="25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9"/>
          <p:cNvSpPr/>
          <p:nvPr/>
        </p:nvSpPr>
        <p:spPr>
          <a:xfrm>
            <a:off x="642960" y="1285920"/>
            <a:ext cx="7858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чшей из древних пород молочного скота в 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ется холмогорская. Почти все породы и отродья молочного скота северных и центральных областей страны создавались с использованием в той или иной мере кро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лмогорского скота» А.С. Емелья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Pict0005"/>
          <p:cNvPicPr/>
          <p:nvPr/>
        </p:nvPicPr>
        <p:blipFill>
          <a:blip r:embed="rId1"/>
          <a:stretch/>
        </p:blipFill>
        <p:spPr>
          <a:xfrm>
            <a:off x="2500200" y="3357720"/>
            <a:ext cx="4383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4619-0A73-4603-86C9-064DB7D1C8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42960" y="1352880"/>
            <a:ext cx="77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 детства особенное пристрастие имел к животноводству. Еще мальчишкой помогал матери доить кор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хаживать за животными, ездил на лошадях в извоз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оминания  А.С.Емелья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http://images-on-off.com/images/51/doilniyapparatustroystvoprintsiprabotikl-3bec497d.jpg"/>
          <p:cNvPicPr/>
          <p:nvPr/>
        </p:nvPicPr>
        <p:blipFill>
          <a:blip r:embed="rId1"/>
          <a:stretch/>
        </p:blipFill>
        <p:spPr>
          <a:xfrm>
            <a:off x="2500200" y="3429000"/>
            <a:ext cx="42148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0606-1C8B-4A97-BA50-DBA9C2ABF5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43040" y="2643120"/>
            <a:ext cx="542916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1071720" y="1214280"/>
            <a:ext cx="67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ексей Степанович возглавляя СНИМХ, а затем опытную станцию, направлял усилия коллектива на разработку важных вопросов развития молочного скотоводства в Северных районах стра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00360" y="1428480"/>
            <a:ext cx="422892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ексей Степанович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одил большу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ытническую работу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раздою коров в совхозе «Молочное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62AA-084E-43E6-A563-F2D23ADAE2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\\Razvedenie\share\2019\здание СЗНИИ\GMea83-FVxo.jpg"/>
          <p:cNvPicPr/>
          <p:nvPr/>
        </p:nvPicPr>
        <p:blipFill>
          <a:blip r:embed="rId1"/>
          <a:stretch/>
        </p:blipFill>
        <p:spPr>
          <a:xfrm>
            <a:off x="1214280" y="1357200"/>
            <a:ext cx="295920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7722-9855-41E1-8372-67A983828F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1214280" y="1143000"/>
            <a:ext cx="678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 1936 - начале 1937 года зоотехнической комиссией под руководством и при непосредственном участии  А.С. Емельянова был проведен осмотр стад молочного скота на фермах, входящих в зону Холмогорского Госплемрассадника Архангельской и Вологодской обла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Documents and Settings\Admin\Мои документы\Богорадова\КонферЕмельянов\ЕмельяновЧтения\Для СЗНИИМЛПХ\Емельянов А.С. с сотрудниками у коровы Радость - 1958г._pagenumber.001.jpg"/>
          <p:cNvPicPr/>
          <p:nvPr/>
        </p:nvPicPr>
        <p:blipFill>
          <a:blip r:embed="rId1"/>
          <a:stretch/>
        </p:blipFill>
        <p:spPr>
          <a:xfrm>
            <a:off x="2428920" y="3286080"/>
            <a:ext cx="44290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61AD-8A80-4A19-B594-9B44301D4B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143080" y="2357280"/>
            <a:ext cx="5151600" cy="35164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2071800" y="1214280"/>
            <a:ext cx="528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стика стад по экстерьеру холмогорского скота улучшила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5FE9-D821-4A7D-BABC-CF29264AB8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Documents and Settings\Admin\Мои документы\Богорадова\КонферЕмельянов\ЕмельяновЧтения\Для СЗНИИМЛПХ\СтадаХолм0004.tif"/>
          <p:cNvPicPr/>
          <p:nvPr/>
        </p:nvPicPr>
        <p:blipFill>
          <a:blip r:embed="rId1"/>
          <a:stretch/>
        </p:blipFill>
        <p:spPr>
          <a:xfrm>
            <a:off x="1000080" y="3000240"/>
            <a:ext cx="7367760" cy="303552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5"/>
          <p:cNvSpPr/>
          <p:nvPr/>
        </p:nvSpPr>
        <p:spPr>
          <a:xfrm>
            <a:off x="928800" y="1071720"/>
            <a:ext cx="728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отехнический осмотр 1957 года был проведен также под общим руководством А.С. Емельянова. Получены данные средней продуктивности коров холмогорской породы по стадам колхозных ферм Холмогорского района, которая составила 2762 кг молока с жирностью 3,72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7D4E-F17D-4755-93CD-989A85A5BB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Admin\Мои документы\Богорадова\КонферЕмельянов\KEDA2_V974Q.jpg"/>
          <p:cNvPicPr/>
          <p:nvPr/>
        </p:nvPicPr>
        <p:blipFill>
          <a:blip r:embed="rId1"/>
          <a:stretch/>
        </p:blipFill>
        <p:spPr>
          <a:xfrm>
            <a:off x="1143000" y="785880"/>
            <a:ext cx="4167360" cy="55594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5357880" y="1785960"/>
            <a:ext cx="328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й план племенного совершенствования скота холмогорской породы по Великоустюгскому ГП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7T10:09:12Z</dcterms:created>
  <dc:creator>1</dc:creator>
  <dc:description/>
  <dc:language>en-US</dc:language>
  <cp:lastModifiedBy>Admin</cp:lastModifiedBy>
  <dcterms:modified xsi:type="dcterms:W3CDTF">2019-02-27T06:19:22Z</dcterms:modified>
  <cp:revision>400</cp:revision>
  <dc:subject/>
  <dc:title>157.Разработать методические положения по совершенствованию племенных и продуктивных признаков крупного рогатого скота на основе получения и использования лучшего мирового и отечественного генофонда молочных пород в условиях Северо-Западной зоны Российской Федерации на 2017 -2020 год</dc:title>
</cp:coreProperties>
</file>