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E6D3-8368-40FB-ADA8-8318FC252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F045-EC24-47F5-B107-2F99FBD4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74E8-F807-4175-952C-BAA9E30B0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F7FE-05E8-4F2B-B557-117555E2A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F748-20A6-4D18-96CC-D7356A1F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F863-0B83-43B8-A028-E47BE1C3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2AFF-80C5-4A38-89A2-7CF5EB1F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D1B0-C687-43F8-A08B-500D9190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B990-DCFB-442F-9109-CF7D92FF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D4F8-3623-4523-B636-E5A33B15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C498-4F3B-464D-9F1B-B9C24F1B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06FC-657D-4D5C-AA0A-9EFC0C41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9D0B-2A19-4574-8AF1-1AEE0534E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cademy@molochnoe.ru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304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НОС ЭЛЕМЕНТОВ ПИТАНИЯ ПРИ ПРИМЕНЕНИИ УДОБР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ухина О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ГБОУ ВО Вологодская государственная молочнохозяйственная академия им. Н.В. Верещагина, г. Вологда, с. Молочное,  Рос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mail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cademy@molochnoe.r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kanagro@molochnoe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нос элементов питания 1т клубней картофеля с учётом ботвы при применении различных доз удобрений,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0" y="1600200"/>
          <a:ext cx="9144000" cy="5398920"/>
        </p:xfrm>
        <a:graphic>
          <a:graphicData uri="http://schemas.openxmlformats.org/drawingml/2006/table">
            <a:tbl>
              <a:tblPr/>
              <a:tblGrid>
                <a:gridCol w="4830840"/>
                <a:gridCol w="1236600"/>
                <a:gridCol w="1612800"/>
                <a:gridCol w="1463760"/>
              </a:tblGrid>
              <a:tr h="105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иа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о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сфо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данным ряда исследовател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(без удобрений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r>
                        <a:rPr b="1" lang="ru-RU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r>
                        <a:rPr b="1" lang="ru-RU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ru-RU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r>
                        <a:rPr b="1" lang="ru-RU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0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Р</a:t>
                      </a:r>
                      <a:r>
                        <a:rPr b="1" lang="ru-RU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ru-RU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r>
                        <a:rPr b="1" lang="ru-RU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1" lang="ru-RU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40 т/га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навоз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нос элементов питания 1т зерна ячменя  с учётом соломы при применении различных доз удобрений,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0" y="1600200"/>
          <a:ext cx="8991720" cy="5100480"/>
        </p:xfrm>
        <a:graphic>
          <a:graphicData uri="http://schemas.openxmlformats.org/drawingml/2006/table">
            <a:tbl>
              <a:tblPr/>
              <a:tblGrid>
                <a:gridCol w="4750200"/>
                <a:gridCol w="1216080"/>
                <a:gridCol w="1585800"/>
                <a:gridCol w="1439640"/>
              </a:tblGrid>
              <a:tr h="90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иа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о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сфо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данным ряда исследовател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(без удобрений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12Р16К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80Р40К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Р40К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8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Р10К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+ последействие 40т/га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воз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аланс элементов 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57200" y="914400"/>
          <a:ext cx="8229240" cy="5942880"/>
        </p:xfrm>
        <a:graphic>
          <a:graphicData uri="http://schemas.openxmlformats.org/drawingml/2006/table">
            <a:tbl>
              <a:tblPr/>
              <a:tblGrid>
                <a:gridCol w="1951200"/>
                <a:gridCol w="705960"/>
                <a:gridCol w="1177200"/>
                <a:gridCol w="1295280"/>
                <a:gridCol w="1447200"/>
                <a:gridCol w="1652400"/>
              </a:tblGrid>
              <a:tr h="505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Показа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Элеме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Вариант опы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2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</a:t>
                      </a:r>
                      <a:r>
                        <a:rPr b="1" lang="ru-RU" sz="1600" spc="-1" strike="noStrike" baseline="-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</a:t>
                      </a:r>
                      <a:r>
                        <a:rPr b="1" lang="ru-RU" sz="1600" spc="-1" strike="noStrike" baseline="-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K</a:t>
                      </a:r>
                      <a:r>
                        <a:rPr b="1" lang="ru-RU" sz="1600" spc="-1" strike="noStrike" baseline="-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2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</a:t>
                      </a:r>
                      <a:r>
                        <a:rPr b="1" lang="ru-RU" sz="1600" spc="-1" strike="noStrike" baseline="-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3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</a:t>
                      </a:r>
                      <a:r>
                        <a:rPr b="1" lang="ru-RU" sz="1600" spc="-1" strike="noStrike" baseline="-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K</a:t>
                      </a:r>
                      <a:r>
                        <a:rPr b="1" lang="ru-RU" sz="1600" spc="-1" strike="noStrike" baseline="-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36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</a:t>
                      </a:r>
                      <a:r>
                        <a:rPr b="1" lang="ru-RU" sz="1600" spc="-1" strike="noStrike" baseline="-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3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Р</a:t>
                      </a:r>
                      <a:r>
                        <a:rPr b="1" lang="ru-RU" sz="1600" spc="-1" strike="noStrike" baseline="-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K</a:t>
                      </a:r>
                      <a:r>
                        <a:rPr b="1" lang="ru-RU" sz="1600" spc="-1" strike="noStrike" baseline="-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65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</a:t>
                      </a:r>
                      <a:r>
                        <a:rPr b="1" lang="ru-RU" sz="1600" spc="-1" strike="noStrike" baseline="-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3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</a:t>
                      </a:r>
                      <a:r>
                        <a:rPr b="1" lang="ru-RU" sz="1600" spc="-1" strike="noStrike" baseline="-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К</a:t>
                      </a:r>
                      <a:r>
                        <a:rPr b="1" lang="ru-RU" sz="1600" spc="-1" strike="noStrike" baseline="-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36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редневзвешенный хозяйственный вынос, кг/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2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</a:t>
                      </a:r>
                      <a:r>
                        <a:rPr b="1" lang="ru-RU" sz="1600" spc="-1" strike="noStrike" baseline="-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O</a:t>
                      </a:r>
                      <a:r>
                        <a:rPr b="1" lang="ru-RU" sz="1600" spc="-1" strike="noStrike" baseline="-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K</a:t>
                      </a:r>
                      <a:r>
                        <a:rPr b="1" lang="ru-RU" sz="1600" spc="-1" strike="noStrike" baseline="-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Баланс, кг/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</a:t>
                      </a:r>
                      <a:r>
                        <a:rPr b="1" lang="ru-RU" sz="1600" spc="-1" strike="noStrike" baseline="-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O</a:t>
                      </a:r>
                      <a:r>
                        <a:rPr b="1" lang="ru-RU" sz="1600" spc="-1" strike="noStrike" baseline="-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K</a:t>
                      </a:r>
                      <a:r>
                        <a:rPr b="1" lang="ru-RU" sz="1600" spc="-1" strike="noStrike" baseline="-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Кб фактические,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O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K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1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Цель  опытных исследований на длительном стационарном севообороте - изучить возможность получения плановых уровней урожайностей культур и продуктивности культур севооборота с одновременным регулированием содержания питательных элементов в дерново-подзолистой поч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Цель данного доклада – изучить вынос элементов питания культурами севооборо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785016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дачи исследован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83772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 Установить влияние различных доз удобрений на продуктивность культур севообор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 Выявить влияние удобрений на использование культурами элементов питания из удобрений и поч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) Определить вынос элементов питания изучаемыми культурами 1т урожая с учётом основной и побочно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) Определить баланс элементов пит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 опыта со спут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ановые дозы удобр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2280" y="498600"/>
          <a:ext cx="8839440" cy="6359400"/>
        </p:xfrm>
        <a:graphic>
          <a:graphicData uri="http://schemas.openxmlformats.org/drawingml/2006/table">
            <a:tbl>
              <a:tblPr/>
              <a:tblGrid>
                <a:gridCol w="1350360"/>
                <a:gridCol w="1760400"/>
                <a:gridCol w="1996560"/>
                <a:gridCol w="1357920"/>
                <a:gridCol w="1427040"/>
                <a:gridCol w="94716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б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оовся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с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имая рож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оф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чм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ые урожаи, т/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зы удобрений, кг д.в. / 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иант 2 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иант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иант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иант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навоз (органическое удобрение) - 40 т/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0080" y="74520"/>
            <a:ext cx="8945640" cy="670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исунок. Влияние удобрений на продуктивность культур севооборот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183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914400"/>
          <a:ext cx="9144000" cy="594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14400"/>
                    <a:ext cx="91440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0" y="48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нос элементов питания 1т зелёной массы викоовсяной смеси при применении различных доз удобрений,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00200"/>
          <a:ext cx="8458200" cy="5259240"/>
        </p:xfrm>
        <a:graphic>
          <a:graphicData uri="http://schemas.openxmlformats.org/drawingml/2006/table">
            <a:tbl>
              <a:tblPr/>
              <a:tblGrid>
                <a:gridCol w="4600440"/>
                <a:gridCol w="1177920"/>
                <a:gridCol w="1535400"/>
                <a:gridCol w="1144440"/>
              </a:tblGrid>
              <a:tr h="95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иа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о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сфо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данным ряда исследовател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(без удобрений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r>
                        <a:rPr b="1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1" lang="ru-RU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r>
                        <a:rPr b="1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1" lang="ru-RU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r>
                        <a:rPr b="1" lang="ru-RU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1" lang="ru-RU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последействие 40 т/га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навоз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нос элементов питания 1т зерна озимой ржи с учётом соломы при применении различных доз удобрений,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8229600" cy="5346720"/>
        </p:xfrm>
        <a:graphic>
          <a:graphicData uri="http://schemas.openxmlformats.org/drawingml/2006/table">
            <a:tbl>
              <a:tblPr/>
              <a:tblGrid>
                <a:gridCol w="4348080"/>
                <a:gridCol w="1112760"/>
                <a:gridCol w="1451160"/>
                <a:gridCol w="1317600"/>
              </a:tblGrid>
              <a:tr h="97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иа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о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сфо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данным ряда исследовател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(без удобрений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ru-RU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ru-RU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ru-RU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ru-RU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4год действия 40т/га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воз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8T05:48:54Z</dcterms:created>
  <dc:creator>Dekanagro</dc:creator>
  <dc:description/>
  <dc:language>en-US</dc:language>
  <cp:lastModifiedBy>Dekanagro</cp:lastModifiedBy>
  <dcterms:modified xsi:type="dcterms:W3CDTF">2019-02-28T07:48:20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