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1DF-3040-4F24-919C-559AE0D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AEA-01C7-48FA-AA99-E453ADC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ED3-C910-4ED5-876D-994042CA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BCE-3C89-4B56-BCFB-E3D6FE2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03E-340C-46DB-911A-60EC4ED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CDB-C90A-426C-8A62-C6E2883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3B2-6CF7-4DDB-A092-5BACE89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986-C04D-4F9B-9B04-C74BE18E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97E-7225-4709-B541-0300078F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05C-B5B7-4693-878F-077056F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DE8-6E85-4EB4-A167-74475A1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B26-4D72-486D-BE67-2FD28F9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505E-F54C-4D78-A4FF-7E9EBBC38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784692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 добавка в рационах коров айрширской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кова А.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зоотехник СХПК «ПЗ Майский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ант кафедры зоотехнии и биолог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одской ГМХА им.Н.В Верещаг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59280" y="6021360"/>
            <a:ext cx="37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да – Молоч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Майский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89000"/>
            <a:ext cx="72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ЗАНА B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 энергии (23,95 МДж в 1 кг), предназначен  для сухостойных коров перед отелом и для коров в начале лак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  состоит  из  высокоэффективных  глюкопластических веществ БОВИН-С-КОМПЛЕК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свойства добавки обусловлены входящими в состав компонентами. Пропиленгликоль и глицерин в организме жвачных принимают участие в обмене веществ и используются для образования глюкозы в крови, а также для непосредственного синтеза энергии, способствуя снижению риска заболевания кетоз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User\Desktop\logo-schaumann-barevn-stedn.jpg"/>
          <p:cNvPicPr/>
          <p:nvPr/>
        </p:nvPicPr>
        <p:blipFill>
          <a:blip r:embed="rId1"/>
          <a:stretch/>
        </p:blipFill>
        <p:spPr>
          <a:xfrm>
            <a:off x="539640" y="115920"/>
            <a:ext cx="200196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Майский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000" y="33300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Цель исследования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ось  выявление  эффективности  скармливания энергетической  добавки  Тирзана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копродуктивным  коровам  айрширской  породы  в  сухостойный  и  раздойный   пери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лияние добавка на молочную продуктив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влияние на качественные показатели моло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состояние здоровья и обмена веще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зоотехническую и  экономическую оценку применения добавки при производстве мол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Майский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1197000"/>
          <a:ext cx="8723160" cy="4538520"/>
        </p:xfrm>
        <a:graphic>
          <a:graphicData uri="http://schemas.openxmlformats.org/drawingml/2006/table">
            <a:tbl>
              <a:tblPr/>
              <a:tblGrid>
                <a:gridCol w="2073240"/>
                <a:gridCol w="1908000"/>
                <a:gridCol w="4741920"/>
              </a:tblGrid>
              <a:tr h="828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оров, го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 корм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 рацион (ОР) + глицерин до  отела 30 дней и  после  него  60  дней (по 100 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+ Тирзана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K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  отела 30 дней и  после  него  60  дней (по 300 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+ Тирзана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K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сле  отела 300 г 90  дне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 - Схема научно-хозяйственного опыта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Майский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50920" y="1341360"/>
          <a:ext cx="8713800" cy="5295960"/>
        </p:xfrm>
        <a:graphic>
          <a:graphicData uri="http://schemas.openxmlformats.org/drawingml/2006/table">
            <a:tbl>
              <a:tblPr/>
              <a:tblGrid>
                <a:gridCol w="3673440"/>
                <a:gridCol w="1800000"/>
                <a:gridCol w="1617840"/>
                <a:gridCol w="1622520"/>
              </a:tblGrid>
              <a:tr h="385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аж злаково-бобовый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рносенаж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с злаково-бобовый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корм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мых  подсолнечниковый,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м свекловичный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свекловичная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микс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зана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ин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 - Рационы коров с живой массой 550-600 кг по фактической поедаемости в среднем за период раздо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Майский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ционе содерж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1052640"/>
          <a:ext cx="8785440" cy="5600520"/>
        </p:xfrm>
        <a:graphic>
          <a:graphicData uri="http://schemas.openxmlformats.org/drawingml/2006/table">
            <a:tbl>
              <a:tblPr/>
              <a:tblGrid>
                <a:gridCol w="3313080"/>
                <a:gridCol w="1800360"/>
                <a:gridCol w="2016000"/>
                <a:gridCol w="1656000"/>
              </a:tblGrid>
              <a:tr h="385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ная энергия, МДж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е вещество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ой  протеин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7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2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4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П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аримый протеин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1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9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7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ой  жир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9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8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9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ая клетчатка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3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К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7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7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9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ДК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9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4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32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хмал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5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2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, 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3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2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7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" descr="Майский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 - Молочная продуктивность коров за 100 дней опы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125360"/>
          <a:ext cx="8713800" cy="5112000"/>
        </p:xfrm>
        <a:graphic>
          <a:graphicData uri="http://schemas.openxmlformats.org/drawingml/2006/table">
            <a:tbl>
              <a:tblPr/>
              <a:tblGrid>
                <a:gridCol w="3097080"/>
                <a:gridCol w="2016000"/>
                <a:gridCol w="1800360"/>
                <a:gridCol w="1800360"/>
              </a:tblGrid>
              <a:tr h="395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ая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ый  удой  в  среднем  за  опыт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±0,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1±0,94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±1,03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 доля  жира, 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1±0,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7±0,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±0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очный  удой  молока  базисной  жирности, к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±1,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±1,31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±1,35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 доля  белка,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±0,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5±0,0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3±0,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 контрол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324000" y="6237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 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,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Майский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IMG-20181009-WA0004.jpg"/>
          <p:cNvPicPr/>
          <p:nvPr/>
        </p:nvPicPr>
        <p:blipFill>
          <a:blip r:embed="rId1"/>
          <a:srcRect l="11209" t="21456" r="11069" b="3910"/>
          <a:stretch/>
        </p:blipFill>
        <p:spPr>
          <a:xfrm>
            <a:off x="3708360" y="3141720"/>
            <a:ext cx="5219640" cy="371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0" t="13106" r="0" b="8484"/>
          <a:stretch/>
        </p:blipFill>
        <p:spPr>
          <a:xfrm>
            <a:off x="108000" y="0"/>
            <a:ext cx="5580000" cy="328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Майский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457200" y="5486400"/>
            <a:ext cx="8458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8T04:58:52Z</dcterms:created>
  <dc:creator>Аня</dc:creator>
  <dc:description/>
  <dc:language>en-US</dc:language>
  <cp:lastModifiedBy>User</cp:lastModifiedBy>
  <dcterms:modified xsi:type="dcterms:W3CDTF">2019-02-28T09:55:35Z</dcterms:modified>
  <cp:revision>29</cp:revision>
  <dc:subject/>
  <dc:title>Энергетическая добавка в рационах коров айрширской породы</dc:title>
</cp:coreProperties>
</file>