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2035B-5FCA-44B9-84C4-F3B0C335C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20FB6-FEBC-4B88-8860-91C22F608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68E28-6324-4931-9490-FE13BB44F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9B751-11BB-4C32-893D-B0C98F7B1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CF39C-05A7-4A2C-9C83-2F9446D2D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79756-597F-4625-BCC4-CA9ED9CD9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01F5C-094E-4163-9823-6C01F6477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C2DBF-CFB8-495C-8CCF-9D6918535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8CD73-FBC8-4CE6-A6AB-66F979E15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3737F-6945-4424-9355-8022B94D9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AA917-522D-4A82-BA23-288826958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C842E-B097-4065-BCA2-86C149964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9f6"/>
            </a:gs>
            <a:gs pos="100000">
              <a:srgbClr val="dfe5d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3290B-902D-4D56-8AC5-DF88DBC3A2F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4"/>
          <p:cNvSpPr/>
          <p:nvPr/>
        </p:nvSpPr>
        <p:spPr>
          <a:xfrm>
            <a:off x="614520" y="1130400"/>
            <a:ext cx="112903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Новые подходы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 племенной работе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 оборотным стадом КР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Прямоугольник 5"/>
          <p:cNvSpPr/>
          <p:nvPr/>
        </p:nvSpPr>
        <p:spPr>
          <a:xfrm>
            <a:off x="1809720" y="4836960"/>
            <a:ext cx="8809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докладывает – </a:t>
            </a:r>
            <a:r>
              <a:rPr b="1" lang="ru-RU" sz="2400" spc="-1" strike="noStrike">
                <a:solidFill>
                  <a:srgbClr val="7c240c"/>
                </a:solidFill>
                <a:latin typeface="Century Gothic"/>
              </a:rPr>
              <a:t>Прожерин Валентин Петрович</a:t>
            </a: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г.н.с. Арх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ангельский </a:t>
            </a: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НИИСХ, д.с.-х.н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Рисунок 3" descr=""/>
          <p:cNvPicPr/>
          <p:nvPr/>
        </p:nvPicPr>
        <p:blipFill>
          <a:blip r:embed="rId1"/>
          <a:stretch/>
        </p:blipFill>
        <p:spPr>
          <a:xfrm>
            <a:off x="741240" y="177840"/>
            <a:ext cx="603360" cy="1017720"/>
          </a:xfrm>
          <a:prstGeom prst="rect">
            <a:avLst/>
          </a:prstGeom>
          <a:ln w="0">
            <a:noFill/>
          </a:ln>
        </p:spPr>
      </p:pic>
      <p:sp>
        <p:nvSpPr>
          <p:cNvPr id="75" name="TextBox 1"/>
          <p:cNvSpPr/>
          <p:nvPr/>
        </p:nvSpPr>
        <p:spPr>
          <a:xfrm>
            <a:off x="3683160" y="744480"/>
            <a:ext cx="541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ормат выходного документа по ПЦ телок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1508040" y="1940040"/>
          <a:ext cx="9345600" cy="2763720"/>
        </p:xfrm>
        <a:graphic>
          <a:graphicData uri="http://schemas.openxmlformats.org/drawingml/2006/table">
            <a:tbl>
              <a:tblPr/>
              <a:tblGrid>
                <a:gridCol w="1470240"/>
                <a:gridCol w="1468440"/>
                <a:gridCol w="1469880"/>
                <a:gridCol w="2025720"/>
                <a:gridCol w="1270080"/>
                <a:gridCol w="1641240"/>
              </a:tblGrid>
              <a:tr h="369720">
                <a:tc gridSpan="6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Хозяйство  ………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cc"/>
                          </a:solidFill>
                          <a:latin typeface="Calibri"/>
                        </a:rPr>
                        <a:t>Тел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cc"/>
                          </a:solidFill>
                          <a:latin typeface="Calibri"/>
                        </a:rPr>
                        <a:t>Дата рожд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cc"/>
                          </a:solidFill>
                          <a:latin typeface="Calibri"/>
                        </a:rPr>
                        <a:t>Расчетная ПЦ телки, к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cc"/>
                          </a:solidFill>
                          <a:latin typeface="Calibri"/>
                        </a:rPr>
                        <a:t>Использов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cc"/>
                          </a:solidFill>
                          <a:latin typeface="Calibri"/>
                        </a:rPr>
                        <a:t>Ма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cc"/>
                          </a:solidFill>
                          <a:latin typeface="Calibri"/>
                        </a:rPr>
                        <a:t>Оте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b23604"/>
                          </a:solidFill>
                          <a:latin typeface="Calibri"/>
                        </a:rPr>
                        <a:t>Нива 1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b23604"/>
                          </a:solidFill>
                          <a:latin typeface="Calibri"/>
                        </a:rPr>
                        <a:t>22.05. 20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b23604"/>
                          </a:solidFill>
                          <a:latin typeface="Calibri"/>
                        </a:rPr>
                        <a:t>+ 74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b23604"/>
                          </a:solidFill>
                          <a:latin typeface="Calibri"/>
                        </a:rPr>
                        <a:t>Селекцион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b23604"/>
                          </a:solidFill>
                          <a:latin typeface="Calibri"/>
                        </a:rPr>
                        <a:t>(для инд. Раздоя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b23604"/>
                          </a:solidFill>
                          <a:latin typeface="Calibri"/>
                        </a:rPr>
                        <a:t>Волга 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b23604"/>
                          </a:solidFill>
                          <a:latin typeface="Calibri"/>
                        </a:rPr>
                        <a:t>Север 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…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…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"/>
          <p:cNvSpPr/>
          <p:nvPr/>
        </p:nvSpPr>
        <p:spPr>
          <a:xfrm>
            <a:off x="2592360" y="623880"/>
            <a:ext cx="8912160" cy="12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Arial"/>
              </a:rPr>
              <a:t>Фактическое распределение животных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Arial"/>
              </a:rPr>
              <a:t>по группам учета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, 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1720800" y="1878120"/>
            <a:ext cx="10258560" cy="40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922320" y="1998720"/>
          <a:ext cx="11269800" cy="4440240"/>
        </p:xfrm>
        <a:graphic>
          <a:graphicData uri="http://schemas.openxmlformats.org/drawingml/2006/table">
            <a:tbl>
              <a:tblPr/>
              <a:tblGrid>
                <a:gridCol w="2817720"/>
                <a:gridCol w="2635200"/>
                <a:gridCol w="2998800"/>
                <a:gridCol w="2818080"/>
              </a:tblGrid>
              <a:tr h="11336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000" spc="-1" strike="noStrike">
                          <a:solidFill>
                            <a:srgbClr val="5b9bd5"/>
                          </a:solidFill>
                          <a:latin typeface="Arial"/>
                        </a:rPr>
                        <a:t>Группа телок по р</a:t>
                      </a:r>
                      <a:r>
                        <a:rPr b="1" lang="ru-RU" sz="2000" spc="-1" strike="noStrike">
                          <a:solidFill>
                            <a:srgbClr val="5b9bd5"/>
                          </a:solidFill>
                          <a:latin typeface="Century Gothic"/>
                        </a:rPr>
                        <a:t>асчетн</a:t>
                      </a:r>
                      <a:r>
                        <a:rPr b="1" lang="ru-RU" sz="2000" spc="-1" strike="noStrike">
                          <a:solidFill>
                            <a:srgbClr val="5b9bd5"/>
                          </a:solidFill>
                          <a:latin typeface="Arial"/>
                        </a:rPr>
                        <a:t>ой ПЦ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000" spc="-1" strike="noStrike">
                          <a:solidFill>
                            <a:srgbClr val="5b9bd5"/>
                          </a:solidFill>
                          <a:latin typeface="Arial"/>
                        </a:rPr>
                        <a:t>(кг молочного жира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cc3300"/>
                          </a:solidFill>
                          <a:latin typeface="Century Gothic"/>
                        </a:rPr>
                        <a:t>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cc3300"/>
                          </a:solidFill>
                          <a:latin typeface="Century Gothic"/>
                        </a:rPr>
                        <a:t>I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cc3300"/>
                          </a:solidFill>
                          <a:latin typeface="Century Gothic"/>
                        </a:rPr>
                        <a:t>II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61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5b9bd5"/>
                          </a:solidFill>
                          <a:latin typeface="Century Gothic"/>
                        </a:rPr>
                        <a:t>I –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400" spc="-1" strike="noStrike">
                          <a:solidFill>
                            <a:srgbClr val="0033cc"/>
                          </a:solidFill>
                          <a:latin typeface="Century Gothic"/>
                        </a:rPr>
                        <a:t>Селекционная группа</a:t>
                      </a:r>
                      <a:r>
                        <a:rPr b="1" lang="ru-RU" sz="24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200" spc="-1" strike="noStrike">
                          <a:solidFill>
                            <a:srgbClr val="cc3300"/>
                          </a:solidFill>
                          <a:latin typeface="Century Gothic"/>
                        </a:rPr>
                        <a:t>6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33cc"/>
                          </a:solidFill>
                          <a:latin typeface="Century Gothic"/>
                        </a:rPr>
                        <a:t>3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33cc"/>
                          </a:solidFill>
                          <a:latin typeface="Century Gothic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61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5b9bd5"/>
                          </a:solidFill>
                          <a:latin typeface="Century Gothic"/>
                        </a:rPr>
                        <a:t>II –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400" spc="-1" strike="noStrike">
                          <a:solidFill>
                            <a:srgbClr val="0033cc"/>
                          </a:solidFill>
                          <a:latin typeface="Century Gothic"/>
                        </a:rPr>
                        <a:t>Племенное ядр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33cc"/>
                          </a:solidFill>
                          <a:latin typeface="Century Gothic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200" spc="-1" strike="noStrike">
                          <a:solidFill>
                            <a:srgbClr val="cc3300"/>
                          </a:solidFill>
                          <a:latin typeface="Century Gothic"/>
                        </a:rPr>
                        <a:t>8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33cc"/>
                          </a:solidFill>
                          <a:latin typeface="Century Gothic"/>
                        </a:rPr>
                        <a:t>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5b9bd5"/>
                          </a:solidFill>
                          <a:latin typeface="Century Gothic"/>
                        </a:rPr>
                        <a:t>III -</a:t>
                      </a:r>
                      <a:r>
                        <a:rPr b="1" lang="ru-RU" sz="2400" spc="-1" strike="noStrike">
                          <a:solidFill>
                            <a:srgbClr val="0033cc"/>
                          </a:solidFill>
                          <a:latin typeface="Century Gothic"/>
                        </a:rPr>
                        <a:t>Выранжиров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33cc"/>
                          </a:solidFill>
                          <a:latin typeface="Century Gothic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32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Рисунок 3" descr=""/>
          <p:cNvPicPr/>
          <p:nvPr/>
        </p:nvPicPr>
        <p:blipFill>
          <a:blip r:embed="rId1"/>
          <a:stretch/>
        </p:blipFill>
        <p:spPr>
          <a:xfrm>
            <a:off x="741240" y="177840"/>
            <a:ext cx="603360" cy="1017720"/>
          </a:xfrm>
          <a:prstGeom prst="rect">
            <a:avLst/>
          </a:prstGeom>
          <a:ln w="0">
            <a:noFill/>
          </a:ln>
        </p:spPr>
      </p:pic>
      <p:sp>
        <p:nvSpPr>
          <p:cNvPr id="81" name="TextBox 1"/>
          <p:cNvSpPr/>
          <p:nvPr/>
        </p:nvSpPr>
        <p:spPr>
          <a:xfrm>
            <a:off x="3005280" y="744480"/>
            <a:ext cx="6689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Arial"/>
              </a:rPr>
              <a:t>Оценка качества ремонтного молодняка КРС на 2020 год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Arial"/>
              </a:rPr>
              <a:t>(18 </a:t>
            </a:r>
            <a:r>
              <a:rPr b="1" lang="ru-RU" sz="1800" spc="-1" strike="noStrike">
                <a:solidFill>
                  <a:srgbClr val="7030a0"/>
                </a:solidFill>
                <a:latin typeface="Arial"/>
              </a:rPr>
              <a:t>хозяйств, 8 196 телок)</a:t>
            </a:r>
            <a:r>
              <a:rPr b="1" lang="en-US" sz="1800" spc="-1" strike="noStrike">
                <a:solidFill>
                  <a:srgbClr val="7030a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1955880" y="2278080"/>
          <a:ext cx="9771120" cy="2446200"/>
        </p:xfrm>
        <a:graphic>
          <a:graphicData uri="http://schemas.openxmlformats.org/drawingml/2006/table">
            <a:tbl>
              <a:tblPr/>
              <a:tblGrid>
                <a:gridCol w="2442960"/>
                <a:gridCol w="2443320"/>
                <a:gridCol w="2441520"/>
                <a:gridCol w="2443320"/>
              </a:tblGrid>
              <a:tr h="693720">
                <a:tc gridSpan="4"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Прогнозные показатели по базовым хозяйствам региона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96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33cc"/>
                          </a:solidFill>
                          <a:latin typeface="Calibri"/>
                        </a:rPr>
                        <a:t>8 187 ± 1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33cc"/>
                          </a:solidFill>
                          <a:latin typeface="Calibri"/>
                        </a:rPr>
                        <a:t>3,88 ± 0,00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33cc"/>
                          </a:solidFill>
                          <a:latin typeface="Calibri"/>
                        </a:rPr>
                        <a:t>318 ± 0,7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33cc"/>
                          </a:solidFill>
                          <a:latin typeface="Calibri"/>
                        </a:rPr>
                        <a:t>+ 0,36 ± 0,0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56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93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4,1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37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+ 31,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27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,5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 1,0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Рисунок 3" descr=""/>
          <p:cNvPicPr/>
          <p:nvPr/>
        </p:nvPicPr>
        <p:blipFill>
          <a:blip r:embed="rId1"/>
          <a:stretch/>
        </p:blipFill>
        <p:spPr>
          <a:xfrm>
            <a:off x="741240" y="177840"/>
            <a:ext cx="603360" cy="1017720"/>
          </a:xfrm>
          <a:prstGeom prst="rect">
            <a:avLst/>
          </a:prstGeom>
          <a:ln w="0">
            <a:noFill/>
          </a:ln>
        </p:spPr>
      </p:pic>
      <p:sp>
        <p:nvSpPr>
          <p:cNvPr id="84" name="TextBox 1"/>
          <p:cNvSpPr/>
          <p:nvPr/>
        </p:nvSpPr>
        <p:spPr>
          <a:xfrm>
            <a:off x="1955880" y="744480"/>
            <a:ext cx="898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гнозная продуктивность ремонтных телок холмогорской пород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 2020 год по группам учета (8196 гол.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150920" y="1947960"/>
          <a:ext cx="10253520" cy="3292200"/>
        </p:xfrm>
        <a:graphic>
          <a:graphicData uri="http://schemas.openxmlformats.org/drawingml/2006/table">
            <a:tbl>
              <a:tblPr/>
              <a:tblGrid>
                <a:gridCol w="531720"/>
                <a:gridCol w="2346480"/>
                <a:gridCol w="1457280"/>
                <a:gridCol w="1846440"/>
                <a:gridCol w="1879560"/>
                <a:gridCol w="2192040"/>
              </a:tblGrid>
              <a:tr h="640440">
                <a:tc gridSpan="2"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3cc"/>
                          </a:solidFill>
                          <a:latin typeface="Calibri"/>
                        </a:rPr>
                        <a:t>Группа уче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3cc"/>
                          </a:solidFill>
                          <a:latin typeface="Calibri"/>
                        </a:rPr>
                        <a:t>Удельный вес,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3cc"/>
                          </a:solidFill>
                          <a:latin typeface="Calibri"/>
                        </a:rPr>
                        <a:t>Прогно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3cc"/>
                          </a:solidFill>
                          <a:latin typeface="Calibri"/>
                        </a:rPr>
                        <a:t>По удою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3cc"/>
                          </a:solidFill>
                          <a:latin typeface="Calibri"/>
                        </a:rPr>
                        <a:t>Прогноз по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3cc"/>
                          </a:solidFill>
                          <a:latin typeface="Calibri"/>
                        </a:rPr>
                        <a:t>Выходу жи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3cc"/>
                          </a:solidFill>
                          <a:latin typeface="Calibri"/>
                        </a:rPr>
                        <a:t>Прогнозна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3cc"/>
                          </a:solidFill>
                          <a:latin typeface="Calibri"/>
                        </a:rPr>
                        <a:t>ПЦ тел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Селекцион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8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9 221  ±  6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359  ±  2,8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+ 60,94   ±  0,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08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I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Племенное ядр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80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8 279  ±  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322  ±  0,7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+ 7,16  ±  0,1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088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II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Выранжиров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11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6 822  ± 4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263  ±  1,6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-  21,68  ±  0,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160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I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Селекционный бра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0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5 680  ±  19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220  ±  7,5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-  56,89  ±  4,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рямоугольник 4"/>
          <p:cNvSpPr/>
          <p:nvPr/>
        </p:nvSpPr>
        <p:spPr>
          <a:xfrm>
            <a:off x="3048120" y="611280"/>
            <a:ext cx="60958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Рисунок 3" descr=""/>
          <p:cNvPicPr/>
          <p:nvPr/>
        </p:nvPicPr>
        <p:blipFill>
          <a:blip r:embed="rId1"/>
          <a:stretch/>
        </p:blipFill>
        <p:spPr>
          <a:xfrm>
            <a:off x="11271240" y="200160"/>
            <a:ext cx="603360" cy="1017360"/>
          </a:xfrm>
          <a:prstGeom prst="rect">
            <a:avLst/>
          </a:prstGeom>
          <a:ln w="0">
            <a:noFill/>
          </a:ln>
        </p:spPr>
      </p:pic>
      <p:sp>
        <p:nvSpPr>
          <p:cNvPr id="88" name="TextBox 1"/>
          <p:cNvSpPr/>
          <p:nvPr/>
        </p:nvSpPr>
        <p:spPr>
          <a:xfrm>
            <a:off x="1428840" y="2808360"/>
            <a:ext cx="10183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Спасибо за внимани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4"/>
          <p:cNvSpPr/>
          <p:nvPr/>
        </p:nvSpPr>
        <p:spPr>
          <a:xfrm>
            <a:off x="614520" y="625320"/>
            <a:ext cx="11290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тоги работы региона за 2019 год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403200" y="1770120"/>
          <a:ext cx="11334600" cy="3592440"/>
        </p:xfrm>
        <a:graphic>
          <a:graphicData uri="http://schemas.openxmlformats.org/drawingml/2006/table">
            <a:tbl>
              <a:tblPr/>
              <a:tblGrid>
                <a:gridCol w="4371840"/>
                <a:gridCol w="3183120"/>
                <a:gridCol w="3779640"/>
              </a:tblGrid>
              <a:tr h="971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Показател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По област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По племенным хозяйства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3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32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Удой на 1 корову, кг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32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7 22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32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8 00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8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32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Выход телят, %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32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8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32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8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8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32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Охват Селэксом, %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32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32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39800" y="328320"/>
            <a:ext cx="11088720" cy="1576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Arial"/>
              </a:rPr>
              <a:t>Лучшее племенное хозяйство региона: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племрепродуктор ООО «Пежма» Вельского района </a:t>
            </a:r>
            <a:br>
              <a:rPr sz="2800"/>
            </a:b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на 600 коров с удоем на корову 10 133 кг молока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871280" y="1821960"/>
            <a:ext cx="10130040" cy="469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Лучшая корова по удою за 305 дней лактации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Фитома 2467  4 – 14 859 – 3,99 – 2,99 – 651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Лучшая корова по пожизненной продуктивности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аженка 1380    10 лактаций – 99 920 – 4,02 – 3,18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2860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Рисунок 3" descr=""/>
          <p:cNvPicPr/>
          <p:nvPr/>
        </p:nvPicPr>
        <p:blipFill>
          <a:blip r:embed="rId1"/>
          <a:stretch/>
        </p:blipFill>
        <p:spPr>
          <a:xfrm>
            <a:off x="741240" y="177840"/>
            <a:ext cx="603360" cy="1017720"/>
          </a:xfrm>
          <a:prstGeom prst="rect">
            <a:avLst/>
          </a:prstGeom>
          <a:ln w="0">
            <a:noFill/>
          </a:ln>
        </p:spPr>
      </p:pic>
      <p:sp>
        <p:nvSpPr>
          <p:cNvPr id="48" name="TextBox 1"/>
          <p:cNvSpPr/>
          <p:nvPr/>
        </p:nvSpPr>
        <p:spPr>
          <a:xfrm>
            <a:off x="1938240" y="393840"/>
            <a:ext cx="947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Arial"/>
              </a:rPr>
              <a:t>Экономика отрасли молочного животноводств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1027080" y="1432080"/>
          <a:ext cx="10934640" cy="4587840"/>
        </p:xfrm>
        <a:graphic>
          <a:graphicData uri="http://schemas.openxmlformats.org/drawingml/2006/table">
            <a:tbl>
              <a:tblPr/>
              <a:tblGrid>
                <a:gridCol w="4443480"/>
                <a:gridCol w="6491160"/>
              </a:tblGrid>
              <a:tr h="15548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400" spc="-1" strike="noStrike">
                          <a:solidFill>
                            <a:srgbClr val="bc0ea7"/>
                          </a:solidFill>
                          <a:latin typeface="Arial"/>
                        </a:rPr>
                        <a:t>Себестоимость производства товарного молока </a:t>
                      </a: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с учетом издержек на оборотное стадо</a:t>
                      </a:r>
                      <a:r>
                        <a:rPr b="1" lang="ru-RU" sz="2400" spc="-1" strike="noStrike">
                          <a:solidFill>
                            <a:srgbClr val="bc0ea7"/>
                          </a:solidFill>
                          <a:latin typeface="Arial"/>
                        </a:rPr>
                        <a:t>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крытие затрат отрасли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 из расчета на 1 кг молока)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 rowSpan="4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r>
                        <a:rPr b="1" lang="ru-RU" sz="4000" spc="-1" strike="noStrike">
                          <a:solidFill>
                            <a:srgbClr val="bc0ea7"/>
                          </a:solidFill>
                          <a:latin typeface="Arial"/>
                        </a:rPr>
                        <a:t>33,40 руб. / кг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ручка от реализации:        на 67 %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бсидии на молоко:              на 10,1 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леменная поддержка:           на 1,0 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чая продукция:                  на 20,7 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1600"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800" spc="-1" strike="noStrike">
                          <a:solidFill>
                            <a:srgbClr val="ff3300"/>
                          </a:solidFill>
                          <a:latin typeface="Century Gothic"/>
                        </a:rPr>
                        <a:t>            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800" spc="-1" strike="noStrike">
                          <a:solidFill>
                            <a:srgbClr val="ff3300"/>
                          </a:solidFill>
                          <a:latin typeface="Century Gothic"/>
                        </a:rPr>
                        <a:t>                    </a:t>
                      </a:r>
                      <a:r>
                        <a:rPr b="1" lang="ru-RU" sz="2800" spc="-1" strike="noStrike">
                          <a:solidFill>
                            <a:srgbClr val="ff3300"/>
                          </a:solidFill>
                          <a:latin typeface="Century Gothic"/>
                        </a:rPr>
                        <a:t>финансовый результат     « ……… 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50" name="Рисунок 3" descr=""/>
          <p:cNvPicPr/>
          <p:nvPr/>
        </p:nvPicPr>
        <p:blipFill>
          <a:blip r:embed="rId2"/>
          <a:stretch/>
        </p:blipFill>
        <p:spPr>
          <a:xfrm>
            <a:off x="893880" y="330120"/>
            <a:ext cx="603000" cy="101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C:\Users\v.prozherin\Pictures\Экран.PNG"/>
          <p:cNvPicPr/>
          <p:nvPr/>
        </p:nvPicPr>
        <p:blipFill>
          <a:blip r:embed="rId1"/>
          <a:stretch/>
        </p:blipFill>
        <p:spPr>
          <a:xfrm>
            <a:off x="0" y="757080"/>
            <a:ext cx="12192120" cy="6100920"/>
          </a:xfrm>
          <a:prstGeom prst="rect">
            <a:avLst/>
          </a:prstGeom>
          <a:ln w="0">
            <a:noFill/>
          </a:ln>
        </p:spPr>
      </p:pic>
      <p:sp>
        <p:nvSpPr>
          <p:cNvPr id="52" name="Стрелка вправо 5"/>
          <p:cNvSpPr/>
          <p:nvPr/>
        </p:nvSpPr>
        <p:spPr>
          <a:xfrm>
            <a:off x="1028880" y="5510160"/>
            <a:ext cx="1707840" cy="644400"/>
          </a:xfrm>
          <a:prstGeom prst="rightArrow">
            <a:avLst>
              <a:gd name="adj1" fmla="val 50000"/>
              <a:gd name="adj2" fmla="val 49999"/>
            </a:avLst>
          </a:prstGeom>
          <a:solidFill>
            <a:srgbClr val="ffffff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Овал 6"/>
          <p:cNvSpPr/>
          <p:nvPr/>
        </p:nvSpPr>
        <p:spPr>
          <a:xfrm>
            <a:off x="2819520" y="5602320"/>
            <a:ext cx="3228840" cy="5079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Рисунок 3" descr=""/>
          <p:cNvPicPr/>
          <p:nvPr/>
        </p:nvPicPr>
        <p:blipFill>
          <a:blip r:embed="rId1"/>
          <a:stretch/>
        </p:blipFill>
        <p:spPr>
          <a:xfrm>
            <a:off x="741240" y="177840"/>
            <a:ext cx="603360" cy="1017720"/>
          </a:xfrm>
          <a:prstGeom prst="rect">
            <a:avLst/>
          </a:prstGeom>
          <a:ln w="0">
            <a:noFill/>
          </a:ln>
        </p:spPr>
      </p:pic>
      <p:sp>
        <p:nvSpPr>
          <p:cNvPr id="55" name="TextBox 1"/>
          <p:cNvSpPr/>
          <p:nvPr/>
        </p:nvSpPr>
        <p:spPr>
          <a:xfrm>
            <a:off x="274680" y="652320"/>
            <a:ext cx="11665080" cy="52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Базовые хозяйства региона для апробаци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технологий  выращивания ремонтного молодняка КРС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АФ «Вельская» </a:t>
            </a: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( 1 650 коров, 13,8 мес. – 428 кг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Arial"/>
              </a:rPr>
              <a:t>(привязная системы содержания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АО «Важское» </a:t>
            </a: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(2 040 коров, 13,5 мес. – 402 кг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Arial"/>
              </a:rPr>
              <a:t>(беспривязная система содержания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УМКа</a:t>
            </a: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 (2 370 коров, 14,3 мес. – 404 кг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Arial"/>
              </a:rPr>
              <a:t>(адаптивная технология содержания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Рисунок 3" descr=""/>
          <p:cNvPicPr/>
          <p:nvPr/>
        </p:nvPicPr>
        <p:blipFill>
          <a:blip r:embed="rId1"/>
          <a:stretch/>
        </p:blipFill>
        <p:spPr>
          <a:xfrm>
            <a:off x="741240" y="177840"/>
            <a:ext cx="603360" cy="1017720"/>
          </a:xfrm>
          <a:prstGeom prst="rect">
            <a:avLst/>
          </a:prstGeom>
          <a:ln w="0">
            <a:noFill/>
          </a:ln>
        </p:spPr>
      </p:pic>
      <p:sp>
        <p:nvSpPr>
          <p:cNvPr id="57" name="TextBox 1"/>
          <p:cNvSpPr/>
          <p:nvPr/>
        </p:nvSpPr>
        <p:spPr>
          <a:xfrm>
            <a:off x="1878120" y="744480"/>
            <a:ext cx="977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Результативность работы с ремонтными телками в племхозах регион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1986120" y="1440000"/>
          <a:ext cx="9727920" cy="4983120"/>
        </p:xfrm>
        <a:graphic>
          <a:graphicData uri="http://schemas.openxmlformats.org/drawingml/2006/table">
            <a:tbl>
              <a:tblPr/>
              <a:tblGrid>
                <a:gridCol w="5862600"/>
                <a:gridCol w="1828800"/>
                <a:gridCol w="2036520"/>
              </a:tblGrid>
              <a:tr h="600480"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0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Показател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0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Бонитировка з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8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0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2014 го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0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2019 го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0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0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При первом осеменении телок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buClr>
                          <a:srgbClr val="5b9bd5"/>
                        </a:buClr>
                        <a:buFont typeface="Arial"/>
                        <a:buChar char="-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0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возраст, дне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buClr>
                          <a:srgbClr val="5b9bd5"/>
                        </a:buClr>
                        <a:buFont typeface="Arial"/>
                        <a:buChar char="-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0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живая масса, к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0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5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0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38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0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448  </a:t>
                      </a:r>
                      <a:r>
                        <a:rPr b="1" lang="ru-RU" sz="20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(- 70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0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403 </a:t>
                      </a:r>
                      <a:r>
                        <a:rPr b="1" lang="ru-RU" sz="20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(+14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04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0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Возраст при первом отеле, дне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0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8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0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752 </a:t>
                      </a:r>
                      <a:r>
                        <a:rPr b="1" lang="ru-RU" sz="20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(- 60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92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0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Продуктивность первотелок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buClr>
                          <a:srgbClr val="5b9bd5"/>
                        </a:buClr>
                        <a:buFont typeface="Arial"/>
                        <a:buChar char="-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0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удой за 305 дней лактации, к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buClr>
                          <a:srgbClr val="5b9bd5"/>
                        </a:buClr>
                        <a:buFont typeface="Arial"/>
                        <a:buChar char="-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0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МДЖ,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buClr>
                          <a:srgbClr val="5b9bd5"/>
                        </a:buClr>
                        <a:buFont typeface="Arial"/>
                        <a:buChar char="-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0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живая масса, к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0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6 3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0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3,9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0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5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0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7 20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0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3,9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0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5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Рисунок 3" descr=""/>
          <p:cNvPicPr/>
          <p:nvPr/>
        </p:nvPicPr>
        <p:blipFill>
          <a:blip r:embed="rId1"/>
          <a:stretch/>
        </p:blipFill>
        <p:spPr>
          <a:xfrm>
            <a:off x="741240" y="177840"/>
            <a:ext cx="603360" cy="1017720"/>
          </a:xfrm>
          <a:prstGeom prst="rect">
            <a:avLst/>
          </a:prstGeom>
          <a:ln w="0">
            <a:noFill/>
          </a:ln>
        </p:spPr>
      </p:pic>
      <p:sp>
        <p:nvSpPr>
          <p:cNvPr id="60" name="TextBox 1"/>
          <p:cNvSpPr/>
          <p:nvPr/>
        </p:nvSpPr>
        <p:spPr>
          <a:xfrm>
            <a:off x="2776680" y="744480"/>
            <a:ext cx="657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труктура индекса ПЦ ремонтной телк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Rectangle 46"/>
          <p:cNvSpPr/>
          <p:nvPr/>
        </p:nvSpPr>
        <p:spPr>
          <a:xfrm>
            <a:off x="152280" y="152280"/>
            <a:ext cx="12192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2" name="Group 37"/>
          <p:cNvGrpSpPr/>
          <p:nvPr/>
        </p:nvGrpSpPr>
        <p:grpSpPr>
          <a:xfrm>
            <a:off x="2124000" y="1754280"/>
            <a:ext cx="8407440" cy="3881160"/>
            <a:chOff x="2124000" y="1754280"/>
            <a:chExt cx="8407440" cy="3881160"/>
          </a:xfrm>
        </p:grpSpPr>
        <p:sp>
          <p:nvSpPr>
            <p:cNvPr id="63" name="AutoShape 45"/>
            <p:cNvSpPr/>
            <p:nvPr/>
          </p:nvSpPr>
          <p:spPr>
            <a:xfrm>
              <a:off x="2124000" y="1887480"/>
              <a:ext cx="8407440" cy="339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AutoShape 44"/>
            <p:cNvSpPr/>
            <p:nvPr/>
          </p:nvSpPr>
          <p:spPr>
            <a:xfrm>
              <a:off x="2203200" y="1856880"/>
              <a:ext cx="2505600" cy="133056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c00000"/>
                  </a:solidFill>
                  <a:latin typeface="Calibri"/>
                  <a:ea typeface="Times New Roman"/>
                </a:rPr>
                <a:t>ПЦ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c00000"/>
                  </a:solidFill>
                  <a:latin typeface="Calibri"/>
                  <a:ea typeface="Times New Roman"/>
                </a:rPr>
                <a:t> </a:t>
              </a:r>
              <a:r>
                <a:rPr b="0" lang="ru-RU" sz="2400" spc="-1" strike="noStrike">
                  <a:solidFill>
                    <a:srgbClr val="c00000"/>
                  </a:solidFill>
                  <a:latin typeface="Calibri"/>
                  <a:ea typeface="Times New Roman"/>
                </a:rPr>
                <a:t>ремонтной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c00000"/>
                  </a:solidFill>
                  <a:latin typeface="Calibri"/>
                  <a:ea typeface="Times New Roman"/>
                </a:rPr>
                <a:t>тёлки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AutoShape 43"/>
            <p:cNvSpPr/>
            <p:nvPr/>
          </p:nvSpPr>
          <p:spPr>
            <a:xfrm>
              <a:off x="5475240" y="4260240"/>
              <a:ext cx="1977840" cy="137520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33cc"/>
                  </a:solidFill>
                  <a:latin typeface="Calibri"/>
                  <a:ea typeface="Times New Roman"/>
                </a:rPr>
                <a:t>Расчетная ПЦ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33cc"/>
                  </a:solidFill>
                  <a:latin typeface="Calibri"/>
                  <a:ea typeface="Times New Roman"/>
                </a:rPr>
                <a:t>ремонтной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33cc"/>
                  </a:solidFill>
                  <a:latin typeface="Calibri"/>
                  <a:ea typeface="Times New Roman"/>
                </a:rPr>
                <a:t>тёлки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" name="AutoShape 42"/>
            <p:cNvSpPr/>
            <p:nvPr/>
          </p:nvSpPr>
          <p:spPr>
            <a:xfrm>
              <a:off x="8649000" y="1754280"/>
              <a:ext cx="1813320" cy="143316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c00000"/>
                  </a:solidFill>
                  <a:latin typeface="Calibri"/>
                  <a:ea typeface="Times New Roman"/>
                </a:rPr>
                <a:t>ПЦ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c00000"/>
                  </a:solidFill>
                  <a:latin typeface="Calibri"/>
                  <a:ea typeface="Times New Roman"/>
                </a:rPr>
                <a:t>Отца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" name="Line 41"/>
            <p:cNvSpPr/>
            <p:nvPr/>
          </p:nvSpPr>
          <p:spPr>
            <a:xfrm>
              <a:off x="3166560" y="3187440"/>
              <a:ext cx="2308320" cy="1788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" name="Line 40"/>
            <p:cNvSpPr/>
            <p:nvPr/>
          </p:nvSpPr>
          <p:spPr>
            <a:xfrm flipH="1">
              <a:off x="7453440" y="3187440"/>
              <a:ext cx="2306880" cy="1788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" name="AutoShape 39"/>
            <p:cNvSpPr/>
            <p:nvPr/>
          </p:nvSpPr>
          <p:spPr>
            <a:xfrm>
              <a:off x="5338440" y="1754280"/>
              <a:ext cx="2114640" cy="143316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c00000"/>
                  </a:solidFill>
                  <a:latin typeface="Calibri"/>
                  <a:ea typeface="Times New Roman"/>
                </a:rPr>
                <a:t>ПЦ 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c00000"/>
                  </a:solidFill>
                  <a:latin typeface="Calibri"/>
                  <a:ea typeface="Times New Roman"/>
                </a:rPr>
                <a:t>Матери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" name="Line 38"/>
            <p:cNvSpPr/>
            <p:nvPr/>
          </p:nvSpPr>
          <p:spPr>
            <a:xfrm flipH="1">
              <a:off x="6464160" y="3187440"/>
              <a:ext cx="720" cy="1072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2"/>
          <p:cNvSpPr/>
          <p:nvPr/>
        </p:nvSpPr>
        <p:spPr>
          <a:xfrm>
            <a:off x="2592360" y="558720"/>
            <a:ext cx="8912160" cy="12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Arial"/>
              </a:rPr>
              <a:t>Использование ремонтных тело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3"/>
          <p:cNvSpPr/>
          <p:nvPr/>
        </p:nvSpPr>
        <p:spPr>
          <a:xfrm>
            <a:off x="1720800" y="1878120"/>
            <a:ext cx="10258560" cy="40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914400" y="1428840"/>
          <a:ext cx="11277720" cy="5213160"/>
        </p:xfrm>
        <a:graphic>
          <a:graphicData uri="http://schemas.openxmlformats.org/drawingml/2006/table">
            <a:tbl>
              <a:tblPr/>
              <a:tblGrid>
                <a:gridCol w="3135240"/>
                <a:gridCol w="2212920"/>
                <a:gridCol w="3152880"/>
                <a:gridCol w="2776680"/>
              </a:tblGrid>
              <a:tr h="11397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000" spc="-1" strike="noStrike">
                          <a:solidFill>
                            <a:srgbClr val="5b9bd5"/>
                          </a:solidFill>
                          <a:latin typeface="Arial"/>
                        </a:rPr>
                        <a:t>Группа телок по р</a:t>
                      </a:r>
                      <a:r>
                        <a:rPr b="1" lang="ru-RU" sz="2000" spc="-1" strike="noStrike">
                          <a:solidFill>
                            <a:srgbClr val="5b9bd5"/>
                          </a:solidFill>
                          <a:latin typeface="Century Gothic"/>
                        </a:rPr>
                        <a:t>асчетн</a:t>
                      </a:r>
                      <a:r>
                        <a:rPr b="1" lang="ru-RU" sz="2000" spc="-1" strike="noStrike">
                          <a:solidFill>
                            <a:srgbClr val="5b9bd5"/>
                          </a:solidFill>
                          <a:latin typeface="Arial"/>
                        </a:rPr>
                        <a:t>ой П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000" spc="-1" strike="noStrike">
                          <a:solidFill>
                            <a:srgbClr val="5b9bd5"/>
                          </a:solidFill>
                          <a:latin typeface="Arial"/>
                        </a:rPr>
                        <a:t>(по кг молочного жира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0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Учтенное поголовь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0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Закончили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первую лактацию,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0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Племпродажа,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61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5b9bd5"/>
                          </a:solidFill>
                          <a:latin typeface="Century Gothic"/>
                        </a:rPr>
                        <a:t>I –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Century Gothic"/>
                        </a:rPr>
                        <a:t>Селекционная группа</a:t>
                      </a: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32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21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8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43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5b9bd5"/>
                          </a:solidFill>
                          <a:latin typeface="Century Gothic"/>
                        </a:rPr>
                        <a:t>II –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Century Gothic"/>
                        </a:rPr>
                        <a:t>Племенное ядро</a:t>
                      </a: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Century Gothic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1 50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32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77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1</a:t>
                      </a:r>
                      <a:r>
                        <a:rPr b="1" lang="en-US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428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5b9bd5"/>
                          </a:solidFill>
                          <a:latin typeface="Century Gothic"/>
                        </a:rPr>
                        <a:t>III –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Century Gothic"/>
                        </a:rPr>
                        <a:t>Выранжиров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25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7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32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9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                                                                     </a:t>
                      </a:r>
                      <a:r>
                        <a:rPr b="1" lang="ru-RU" sz="9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197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26T16:50:27Z</dcterms:created>
  <dc:creator>v.prozherin</dc:creator>
  <dc:description/>
  <dc:language>en-US</dc:language>
  <cp:lastModifiedBy>1</cp:lastModifiedBy>
  <dcterms:modified xsi:type="dcterms:W3CDTF">2020-02-28T06:32:08Z</dcterms:modified>
  <cp:revision>519</cp:revision>
  <dc:subject/>
  <dc:title>Презентация PowerPoint</dc:title>
</cp:coreProperties>
</file>