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5145088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894F-C2A4-48B8-A0BF-F7973C62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EA7-2037-40D7-A09C-445F8CA5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17E-3CC6-4CD2-9A9C-9A0574ED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A5E-0A2B-4E22-A077-332233FD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F80A-C076-4D61-9E74-7B5AEA7C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F23-3400-4D18-85EA-F843019C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51AF-D652-46DD-ABEA-E9F35F6C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EAB-95A9-4A46-824F-07C92450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A220-C477-4058-9DBA-D1E4F365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1F6-1436-41C1-8DE2-2DF2C14A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33C-5BC8-47B2-A4C1-E31B016F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763-46A0-4235-907E-262FBDA2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A376-39B4-43F8-B4B5-26224EAC9D62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spbvniigen@mail.ru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Картинки по запросу future abstract"/>
          <p:cNvPicPr/>
          <p:nvPr/>
        </p:nvPicPr>
        <p:blipFill>
          <a:blip r:embed="rId1"/>
          <a:stretch/>
        </p:blipFill>
        <p:spPr>
          <a:xfrm>
            <a:off x="0" y="464508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28"/>
          <p:cNvSpPr/>
          <p:nvPr/>
        </p:nvSpPr>
        <p:spPr>
          <a:xfrm>
            <a:off x="285840" y="714240"/>
            <a:ext cx="8572320" cy="364356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о-практическая конференция с международным участием «Аграрная нау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современном этапе: состояние, проблемы, перспек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нализ встречаемости и значе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аплотипа фертильности айрширского скота АН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Л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ршего научного сотрудника, к.б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ЗОВНИКОВОЙ МАРИНЫ ВЛАДИМИРОВ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ИИГРЖ, 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42920" y="71280"/>
            <a:ext cx="88581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российский научно-исследовательский институт генетики и разведения сельскохозяйственных жив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иал Федерального государственного бюджетного научного учреждения «Федеральный научный центр животноводства — ВИЖ имени академика Л. К. Эрнс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боратория молекулярной гене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4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0" y="71280"/>
            <a:ext cx="9144000" cy="9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Рисунок 2. Частота гаплотипа АН1 среди быков айрширской породы используемых в системе искусственного осеменения РФ разных лет р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Диаграмма 6"/>
          <p:cNvGraphicFramePr/>
          <p:nvPr/>
        </p:nvGraphicFramePr>
        <p:xfrm>
          <a:off x="1281240" y="1008000"/>
          <a:ext cx="6365880" cy="392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1240" y="1008000"/>
                    <a:ext cx="6365880" cy="39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5"/>
          <p:cNvSpPr/>
          <p:nvPr/>
        </p:nvSpPr>
        <p:spPr>
          <a:xfrm>
            <a:off x="0" y="285840"/>
            <a:ext cx="914400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Таблица 1. Суммарный показатель абортов и мертворождений от быков-производителей айрширской по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Картинки по запросу future abstract"/>
          <p:cNvPicPr/>
          <p:nvPr/>
        </p:nvPicPr>
        <p:blipFill>
          <a:blip r:embed="rId1"/>
          <a:stretch/>
        </p:blipFill>
        <p:spPr>
          <a:xfrm>
            <a:off x="0" y="4645080"/>
            <a:ext cx="9144000" cy="50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539640" y="987480"/>
          <a:ext cx="7777440" cy="2965320"/>
        </p:xfrm>
        <a:graphic>
          <a:graphicData uri="http://schemas.openxmlformats.org/drawingml/2006/table">
            <a:tbl>
              <a:tblPr/>
              <a:tblGrid>
                <a:gridCol w="3252960"/>
                <a:gridCol w="2190600"/>
                <a:gridCol w="2333880"/>
              </a:tblGrid>
              <a:tr h="4118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татус быков по АН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1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n=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1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n=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91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 получено потомков, го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5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1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оте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9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11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ортов, гол. (</a:t>
                      </a:r>
                      <a:r>
                        <a:rPr b="1" lang="ru-RU" sz="1800" spc="-1" strike="noStrike">
                          <a:solidFill>
                            <a:srgbClr val="2e75b6"/>
                          </a:solidFill>
                          <a:latin typeface="Times New Roman"/>
                          <a:ea typeface="Calibri"/>
                        </a:rPr>
                        <a:t>%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2 (</a:t>
                      </a:r>
                      <a:r>
                        <a:rPr b="1" lang="ru-RU" sz="1800" spc="-1" strike="noStrike">
                          <a:solidFill>
                            <a:srgbClr val="2e75b6"/>
                          </a:solidFill>
                          <a:latin typeface="Times New Roman"/>
                          <a:ea typeface="Calibri"/>
                        </a:rPr>
                        <a:t>0,56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5 (</a:t>
                      </a:r>
                      <a:r>
                        <a:rPr b="1" lang="ru-RU" sz="1800" spc="-1" strike="noStrike">
                          <a:solidFill>
                            <a:srgbClr val="2e75b6"/>
                          </a:solidFill>
                          <a:latin typeface="Times New Roman"/>
                          <a:ea typeface="Calibri"/>
                        </a:rPr>
                        <a:t>0,66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1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дства, гол.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(0,0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(0,0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11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ртворожденные, гол. (</a:t>
                      </a:r>
                      <a:r>
                        <a:rPr b="1" lang="ru-RU" sz="1800" spc="-1" strike="noStrike">
                          <a:solidFill>
                            <a:srgbClr val="2e75b6"/>
                          </a:solidFill>
                          <a:latin typeface="Times New Roman"/>
                          <a:ea typeface="Calibri"/>
                        </a:rPr>
                        <a:t>%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77 (</a:t>
                      </a:r>
                      <a:r>
                        <a:rPr b="1" lang="ru-RU" sz="1800" spc="-1" strike="noStrike">
                          <a:solidFill>
                            <a:srgbClr val="2e75b6"/>
                          </a:solidFill>
                          <a:latin typeface="Times New Roman"/>
                          <a:ea typeface="Calibri"/>
                        </a:rPr>
                        <a:t>3,18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26 (</a:t>
                      </a:r>
                      <a:r>
                        <a:rPr b="1" lang="ru-RU" sz="1800" spc="-1" strike="noStrike">
                          <a:solidFill>
                            <a:srgbClr val="2e75b6"/>
                          </a:solidFill>
                          <a:latin typeface="Times New Roman"/>
                          <a:ea typeface="Calibri"/>
                        </a:rPr>
                        <a:t>3,57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19" name="TextBox 7"/>
          <p:cNvSpPr/>
          <p:nvPr/>
        </p:nvSpPr>
        <p:spPr>
          <a:xfrm>
            <a:off x="412920" y="39416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1-С -– носитель гаплотипа фертильности АН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1-F  – не носитель гаплотипа фертильности АН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4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0" y="285840"/>
            <a:ext cx="914400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Таблица 2. Результаты отелов коров с учетом статуса по АН1 быков-отцов и быков-осемен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Картинки по запросу future abstract"/>
          <p:cNvPicPr/>
          <p:nvPr/>
        </p:nvPicPr>
        <p:blipFill>
          <a:blip r:embed="rId1"/>
          <a:stretch/>
        </p:blipFill>
        <p:spPr>
          <a:xfrm>
            <a:off x="0" y="4645080"/>
            <a:ext cx="9144000" cy="50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324000" y="987480"/>
          <a:ext cx="8424720" cy="2863800"/>
        </p:xfrm>
        <a:graphic>
          <a:graphicData uri="http://schemas.openxmlformats.org/drawingml/2006/table">
            <a:tbl>
              <a:tblPr/>
              <a:tblGrid>
                <a:gridCol w="2447640"/>
                <a:gridCol w="1224000"/>
                <a:gridCol w="1382760"/>
                <a:gridCol w="1685880"/>
                <a:gridCol w="1684440"/>
              </a:tblGrid>
              <a:tr h="4118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очетание бык-отец х бык-осемен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АН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АН1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 АН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11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 оте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9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5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08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учено припл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11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ортов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080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ртворожденных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2e75b6"/>
                          </a:solidFill>
                          <a:latin typeface="Times New Roman"/>
                          <a:ea typeface="Calibri"/>
                        </a:rPr>
                        <a:t>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124" name="TextBox 2"/>
          <p:cNvSpPr/>
          <p:nvPr/>
        </p:nvSpPr>
        <p:spPr>
          <a:xfrm>
            <a:off x="324000" y="3851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1-С -– носитель гаплотипа фертильности АН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1-F  – не носитель гаплотипа фертильности АН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4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1359000" cy="514512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5"/>
          <p:cNvSpPr/>
          <p:nvPr/>
        </p:nvSpPr>
        <p:spPr>
          <a:xfrm>
            <a:off x="1357200" y="142920"/>
            <a:ext cx="778680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571760" y="785880"/>
            <a:ext cx="739296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ечаемость генетического дефекта АН1 в анализируемой выборке составила </a:t>
            </a:r>
            <a:r>
              <a:rPr b="1" lang="ru-RU" sz="1800" spc="-1" strike="noStrike">
                <a:solidFill>
                  <a:srgbClr val="0b0bfd"/>
                </a:solidFill>
                <a:latin typeface="Arial"/>
              </a:rPr>
              <a:t>26,08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линейной принадлежности показал, что большая часть быков – носителей генетического дефекта АН1 относится к многочисленным линиям </a:t>
            </a:r>
            <a:r>
              <a:rPr b="1" lang="ru-RU" sz="1800" spc="-1" strike="noStrike">
                <a:solidFill>
                  <a:srgbClr val="2e75b6"/>
                </a:solidFill>
                <a:latin typeface="Arial"/>
              </a:rPr>
              <a:t>120135 О.А.К.Р. Лихтинг (30,70%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линии </a:t>
            </a:r>
            <a:r>
              <a:rPr b="1" lang="ru-RU" sz="1800" spc="-1" strike="noStrike">
                <a:solidFill>
                  <a:srgbClr val="5f0de5"/>
                </a:solidFill>
                <a:latin typeface="Arial"/>
              </a:rPr>
              <a:t>13093 Р. Урхо Еррант (17,24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лен высокий процент быков-носителей АН1 – </a:t>
            </a:r>
            <a:r>
              <a:rPr b="1" lang="ru-RU" sz="1800" spc="-1" strike="noStrike">
                <a:solidFill>
                  <a:srgbClr val="2e75b6"/>
                </a:solidFill>
                <a:latin typeface="Arial"/>
              </a:rPr>
              <a:t>22,0%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молодых быков  (</a:t>
            </a:r>
            <a:r>
              <a:rPr b="1" lang="ru-RU" sz="1800" spc="-1" strike="noStrike">
                <a:solidFill>
                  <a:srgbClr val="2e75b6"/>
                </a:solidFill>
                <a:latin typeface="Arial"/>
              </a:rPr>
              <a:t>2011-2015 г.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крещивании дочерей быков АН1-С с быками-осеменителями АН1-С возрастает процент мертвор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данные указывают на необходимость постоянно контролировать поголовье в племенных хозяйствах для сокращения числа носителей мутации АН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-36360" y="142920"/>
            <a:ext cx="142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логд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евр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20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"/>
          <p:cNvPicPr/>
          <p:nvPr/>
        </p:nvPicPr>
        <p:blipFill>
          <a:blip r:embed="rId2"/>
          <a:stretch/>
        </p:blipFill>
        <p:spPr>
          <a:xfrm>
            <a:off x="212760" y="4071960"/>
            <a:ext cx="90972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1"/>
          <p:cNvSpPr/>
          <p:nvPr/>
        </p:nvSpPr>
        <p:spPr>
          <a:xfrm>
            <a:off x="1346040" y="-11160"/>
            <a:ext cx="771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03864"/>
                </a:solidFill>
                <a:latin typeface="Arial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5"/>
          <p:cNvSpPr/>
          <p:nvPr/>
        </p:nvSpPr>
        <p:spPr>
          <a:xfrm>
            <a:off x="1332000" y="4425840"/>
            <a:ext cx="771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Arial"/>
              </a:rPr>
              <a:t>Санкт-Петербург-Пушкин, Московское шоссе, 55-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Arial"/>
              </a:rPr>
              <a:t>e-mail: 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spbvniigen@mail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0" y="0"/>
            <a:ext cx="1359000" cy="51451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"/>
          <p:cNvPicPr/>
          <p:nvPr/>
        </p:nvPicPr>
        <p:blipFill>
          <a:blip r:embed="rId3"/>
          <a:stretch/>
        </p:blipFill>
        <p:spPr>
          <a:xfrm>
            <a:off x="176040" y="4017960"/>
            <a:ext cx="909720" cy="8161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1"/>
          <p:cNvSpPr/>
          <p:nvPr/>
        </p:nvSpPr>
        <p:spPr>
          <a:xfrm>
            <a:off x="-36360" y="142920"/>
            <a:ext cx="142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логд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евр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20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E:\AH 1\Емельяноовские чтения 2020\Я и коровы.jpg"/>
          <p:cNvPicPr/>
          <p:nvPr/>
        </p:nvPicPr>
        <p:blipFill>
          <a:blip r:embed="rId4"/>
          <a:srcRect l="0" t="0" r="9549" b="0"/>
          <a:stretch/>
        </p:blipFill>
        <p:spPr>
          <a:xfrm>
            <a:off x="1467000" y="819000"/>
            <a:ext cx="3690720" cy="3586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5"/>
          <a:stretch/>
        </p:blipFill>
        <p:spPr>
          <a:xfrm>
            <a:off x="5157720" y="3659040"/>
            <a:ext cx="3986280" cy="6829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5292720" y="9730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f0de5"/>
                </a:solidFill>
                <a:latin typeface="Arial"/>
              </a:rPr>
              <a:t>Участвовали в подготовке докла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5508720" y="1851120"/>
            <a:ext cx="24480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f0de5"/>
                </a:solidFill>
                <a:latin typeface="Arial"/>
              </a:rPr>
              <a:t>Тулинова О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f0de5"/>
                </a:solidFill>
                <a:latin typeface="Arial"/>
              </a:rPr>
              <a:t>Крутикова А.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f0de5"/>
                </a:solidFill>
                <a:latin typeface="Arial"/>
              </a:rPr>
              <a:t>Дементьева Н.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4"/>
          <p:cNvSpPr/>
          <p:nvPr/>
        </p:nvSpPr>
        <p:spPr>
          <a:xfrm>
            <a:off x="-27000" y="0"/>
            <a:ext cx="9144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-36360" y="6480"/>
            <a:ext cx="1358640" cy="51451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1357200" y="142920"/>
            <a:ext cx="778680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аплотип фертильности АН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5"/>
          <p:cNvSpPr/>
          <p:nvPr/>
        </p:nvSpPr>
        <p:spPr>
          <a:xfrm>
            <a:off x="-36360" y="142920"/>
            <a:ext cx="14205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логд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февр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2020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2"/>
          <a:stretch/>
        </p:blipFill>
        <p:spPr>
          <a:xfrm>
            <a:off x="212760" y="4071960"/>
            <a:ext cx="909720" cy="82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E:\AH 1\Емельяноовские чтения 2020\Рисунок3 ncbi.png"/>
          <p:cNvPicPr/>
          <p:nvPr/>
        </p:nvPicPr>
        <p:blipFill>
          <a:blip r:embed="rId3"/>
          <a:stretch/>
        </p:blipFill>
        <p:spPr>
          <a:xfrm>
            <a:off x="1427040" y="2627280"/>
            <a:ext cx="3907080" cy="1384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604880" y="1512720"/>
            <a:ext cx="364500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b0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ТА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ен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BE3B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биквитинлигаз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rs475678587 С &gt;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582560" y="946080"/>
            <a:ext cx="3667320" cy="566640"/>
          </a:xfrm>
          <a:prstGeom prst="downArrowCallout">
            <a:avLst>
              <a:gd name="adj1" fmla="val 24992"/>
              <a:gd name="adj2" fmla="val 25019"/>
              <a:gd name="adj3" fmla="val 25000"/>
              <a:gd name="adj4" fmla="val 64977"/>
            </a:avLst>
          </a:prstGeom>
          <a:solidFill>
            <a:srgbClr val="ffffff"/>
          </a:solidFill>
          <a:ln w="28440">
            <a:solidFill>
              <a:srgbClr val="0b0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5508720" y="946080"/>
            <a:ext cx="3456000" cy="566640"/>
          </a:xfrm>
          <a:prstGeom prst="downArrowCallout">
            <a:avLst>
              <a:gd name="adj1" fmla="val 25020"/>
              <a:gd name="adj2" fmla="val 25018"/>
              <a:gd name="adj3" fmla="val 25000"/>
              <a:gd name="adj4" fmla="val 64977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тоген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508720" y="1512720"/>
            <a:ext cx="3456000" cy="3391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елок UBE3B играет ключевую роль в ряде биологических процессов во время органогенеза и нейроразвит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мена последнего нуклеотида в 23-м экзоне гена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UBE3B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(rs475678587 С &gt; Т) влияет на сплайсинг и вызывает частичный пропуск 23-го экзона. Это приводит к неполному усечению HECT-домена в белке UBE3B и нарушает его функцию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1616040" y="3979800"/>
            <a:ext cx="3633840" cy="916920"/>
          </a:xfrm>
          <a:prstGeom prst="pie">
            <a:avLst/>
          </a:prstGeom>
          <a:noFill/>
          <a:ln w="38160">
            <a:solidFill>
              <a:srgbClr val="0b0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к С.Б. Коммандер 31700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wood Betty’s Commander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лся в 1953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4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0" y="214200"/>
            <a:ext cx="914400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инические проя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Картинки по запросу future abstract"/>
          <p:cNvPicPr/>
          <p:nvPr/>
        </p:nvPicPr>
        <p:blipFill>
          <a:blip r:embed="rId1"/>
          <a:stretch/>
        </p:blipFill>
        <p:spPr>
          <a:xfrm>
            <a:off x="0" y="4645080"/>
            <a:ext cx="9144000" cy="50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C:\Users\user\Downloads\бык.jpg"/>
          <p:cNvPicPr/>
          <p:nvPr/>
        </p:nvPicPr>
        <p:blipFill>
          <a:blip r:embed="rId2"/>
          <a:stretch/>
        </p:blipFill>
        <p:spPr>
          <a:xfrm>
            <a:off x="165240" y="865080"/>
            <a:ext cx="1742760" cy="11829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324000" y="22813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1-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C:\Users\user\Downloads\короваЙ.jpg"/>
          <p:cNvPicPr/>
          <p:nvPr/>
        </p:nvPicPr>
        <p:blipFill>
          <a:blip r:embed="rId3"/>
          <a:stretch/>
        </p:blipFill>
        <p:spPr>
          <a:xfrm>
            <a:off x="73080" y="2633760"/>
            <a:ext cx="1834920" cy="110304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1476360" y="26719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4"/>
          <a:stretch/>
        </p:blipFill>
        <p:spPr>
          <a:xfrm>
            <a:off x="2081160" y="2457360"/>
            <a:ext cx="1717560" cy="127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247680" y="1995480"/>
            <a:ext cx="10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к-от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2139840" y="39877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1-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2154240" y="3735360"/>
            <a:ext cx="15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к-осемен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хема 11" descr=""/>
          <p:cNvPicPr/>
          <p:nvPr/>
        </p:nvPicPr>
        <p:blipFill>
          <a:blip r:embed="rId5"/>
          <a:stretch/>
        </p:blipFill>
        <p:spPr>
          <a:xfrm>
            <a:off x="3565440" y="554040"/>
            <a:ext cx="54928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4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0" y="285840"/>
            <a:ext cx="914400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индром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PRIM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 тел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Картинки по запросу future abstract"/>
          <p:cNvPicPr/>
          <p:nvPr/>
        </p:nvPicPr>
        <p:blipFill>
          <a:blip r:embed="rId1"/>
          <a:stretch/>
        </p:blipFill>
        <p:spPr>
          <a:xfrm>
            <a:off x="0" y="4645080"/>
            <a:ext cx="9144000" cy="5000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"/>
          <p:cNvPicPr/>
          <p:nvPr/>
        </p:nvPicPr>
        <p:blipFill>
          <a:blip r:embed="rId2"/>
          <a:stretch/>
        </p:blipFill>
        <p:spPr>
          <a:xfrm>
            <a:off x="563400" y="887400"/>
            <a:ext cx="3705480" cy="2232000"/>
          </a:xfrm>
          <a:prstGeom prst="rect">
            <a:avLst/>
          </a:prstGeom>
          <a:ln w="28440">
            <a:solidFill>
              <a:srgbClr val="0b0bfd"/>
            </a:solidFill>
            <a:miter/>
          </a:ln>
        </p:spPr>
      </p:pic>
      <p:pic>
        <p:nvPicPr>
          <p:cNvPr id="72" name="Рисунок 6" descr=""/>
          <p:cNvPicPr/>
          <p:nvPr/>
        </p:nvPicPr>
        <p:blipFill>
          <a:blip r:embed="rId3"/>
          <a:stretch/>
        </p:blipFill>
        <p:spPr>
          <a:xfrm>
            <a:off x="4691160" y="2278080"/>
            <a:ext cx="3600360" cy="2163600"/>
          </a:xfrm>
          <a:prstGeom prst="rect">
            <a:avLst/>
          </a:prstGeom>
          <a:ln w="38160">
            <a:solidFill>
              <a:srgbClr val="0b0bfd"/>
            </a:solidFill>
            <a:miter/>
          </a:ln>
        </p:spPr>
      </p:pic>
      <p:sp>
        <p:nvSpPr>
          <p:cNvPr id="73" name="TextBox 7"/>
          <p:cNvSpPr/>
          <p:nvPr/>
        </p:nvSpPr>
        <p:spPr>
          <a:xfrm>
            <a:off x="457200" y="3174840"/>
            <a:ext cx="39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данным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horanta et al., 201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4546440" y="644400"/>
            <a:ext cx="3745080" cy="1465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оз верхнего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ото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тавание в развитие и умственная отстал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б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216000" y="3544920"/>
            <a:ext cx="201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arded grow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tellectual dis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2232000" y="3565440"/>
            <a:ext cx="2459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то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ержка роста, Умственная отсталость Смер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4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1359000" cy="5145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476360" y="142920"/>
            <a:ext cx="739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Цель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исследования был мониторинг гаплотипа фертильности АН1 у быков айрширской породы, используемых в системе искусственного осеменения Р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-36360" y="142920"/>
            <a:ext cx="142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логд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евр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20 г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"/>
          <p:cNvPicPr/>
          <p:nvPr/>
        </p:nvPicPr>
        <p:blipFill>
          <a:blip r:embed="rId2"/>
          <a:stretch/>
        </p:blipFill>
        <p:spPr>
          <a:xfrm>
            <a:off x="212760" y="4071960"/>
            <a:ext cx="909720" cy="8240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0" descr=""/>
          <p:cNvPicPr/>
          <p:nvPr/>
        </p:nvPicPr>
        <p:blipFill>
          <a:blip r:embed="rId3"/>
          <a:stretch/>
        </p:blipFill>
        <p:spPr>
          <a:xfrm>
            <a:off x="2139840" y="2706840"/>
            <a:ext cx="2578320" cy="24382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7" descr=""/>
          <p:cNvPicPr/>
          <p:nvPr/>
        </p:nvPicPr>
        <p:blipFill>
          <a:blip r:embed="rId4"/>
          <a:stretch/>
        </p:blipFill>
        <p:spPr>
          <a:xfrm>
            <a:off x="5278320" y="3200400"/>
            <a:ext cx="3097440" cy="174312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1476360" y="1133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 исследова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образцы ДНК быков айрширской поро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=6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инадлежащие шести ПП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1476360" y="19242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я проведены по данным результатов отелов коров айрширской породы. Данные взяты из электронных баз «Селэк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4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0" y="357120"/>
            <a:ext cx="914400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сновные задачи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500040" y="1096920"/>
            <a:ext cx="81439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сти генотипирование быков айрширской породы, используемых в системе искусственного осеменения РФ на предмет носительства гаплотипа АН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ть частоту встречаемости АН1 в анализируемой выборке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ть влияние гаплотипа АН1 на частоту абортов и мертвор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Картинки по запросу future abstract"/>
          <p:cNvPicPr/>
          <p:nvPr/>
        </p:nvPicPr>
        <p:blipFill>
          <a:blip r:embed="rId1"/>
          <a:stretch/>
        </p:blipFill>
        <p:spPr>
          <a:xfrm>
            <a:off x="0" y="4645080"/>
            <a:ext cx="91440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4"/>
          <p:cNvSpPr/>
          <p:nvPr/>
        </p:nvSpPr>
        <p:spPr>
          <a:xfrm>
            <a:off x="-41400" y="-22320"/>
            <a:ext cx="9144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-34920" y="3240"/>
            <a:ext cx="914400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хема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Картинки по запросу future abstract"/>
          <p:cNvPicPr/>
          <p:nvPr/>
        </p:nvPicPr>
        <p:blipFill>
          <a:blip r:embed="rId1"/>
          <a:stretch/>
        </p:blipFill>
        <p:spPr>
          <a:xfrm>
            <a:off x="0" y="4645080"/>
            <a:ext cx="9144000" cy="500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2"/>
          <a:srcRect l="24130" t="8631" r="26511" b="18923"/>
          <a:stretch/>
        </p:blipFill>
        <p:spPr>
          <a:xfrm>
            <a:off x="3376440" y="1014480"/>
            <a:ext cx="1859040" cy="1701720"/>
          </a:xfrm>
          <a:prstGeom prst="rect">
            <a:avLst/>
          </a:prstGeom>
          <a:ln w="28440">
            <a:solidFill>
              <a:srgbClr val="0b0bfd"/>
            </a:solidFill>
            <a:miter/>
          </a:ln>
        </p:spPr>
      </p:pic>
      <p:pic>
        <p:nvPicPr>
          <p:cNvPr id="94" name="Picture 13" descr="E:\AH 1\Рисунок 1.tif"/>
          <p:cNvPicPr/>
          <p:nvPr/>
        </p:nvPicPr>
        <p:blipFill>
          <a:blip r:embed="rId3"/>
          <a:stretch/>
        </p:blipFill>
        <p:spPr>
          <a:xfrm>
            <a:off x="6216480" y="1501920"/>
            <a:ext cx="1675080" cy="792000"/>
          </a:xfrm>
          <a:prstGeom prst="rect">
            <a:avLst/>
          </a:prstGeom>
          <a:ln w="28440">
            <a:solidFill>
              <a:srgbClr val="0b0bfd"/>
            </a:solidFill>
            <a:miter/>
          </a:ln>
        </p:spPr>
      </p:pic>
      <p:pic>
        <p:nvPicPr>
          <p:cNvPr id="95" name="Picture 14" descr="C:\Users\user\Downloads\ДНК.jpg"/>
          <p:cNvPicPr/>
          <p:nvPr/>
        </p:nvPicPr>
        <p:blipFill>
          <a:blip r:embed="rId4"/>
          <a:stretch/>
        </p:blipFill>
        <p:spPr>
          <a:xfrm>
            <a:off x="523800" y="933480"/>
            <a:ext cx="1871640" cy="1766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C:\Users\user\Downloads\img30_24.jpg"/>
          <p:cNvPicPr/>
          <p:nvPr/>
        </p:nvPicPr>
        <p:blipFill>
          <a:blip r:embed="rId5"/>
          <a:stretch/>
        </p:blipFill>
        <p:spPr>
          <a:xfrm>
            <a:off x="539640" y="2819520"/>
            <a:ext cx="1825560" cy="1623960"/>
          </a:xfrm>
          <a:prstGeom prst="rect">
            <a:avLst/>
          </a:prstGeom>
          <a:ln w="28440">
            <a:solidFill>
              <a:srgbClr val="0b0bfd"/>
            </a:solidFill>
            <a:miter/>
          </a:ln>
        </p:spPr>
      </p:pic>
      <p:pic>
        <p:nvPicPr>
          <p:cNvPr id="97" name="Picture 16" descr="E:\AH 1\Снимок1.PNG"/>
          <p:cNvPicPr/>
          <p:nvPr/>
        </p:nvPicPr>
        <p:blipFill>
          <a:blip r:embed="rId6"/>
          <a:srcRect l="0" t="0" r="14217" b="24484"/>
          <a:stretch/>
        </p:blipFill>
        <p:spPr>
          <a:xfrm>
            <a:off x="2967120" y="2860560"/>
            <a:ext cx="2841480" cy="1541520"/>
          </a:xfrm>
          <a:prstGeom prst="rect">
            <a:avLst/>
          </a:prstGeom>
          <a:ln w="28440">
            <a:solidFill>
              <a:srgbClr val="0b0bfd"/>
            </a:solidFill>
            <a:miter/>
          </a:ln>
        </p:spPr>
      </p:pic>
      <p:sp>
        <p:nvSpPr>
          <p:cNvPr id="98" name="Стрелка вправо 3"/>
          <p:cNvSpPr/>
          <p:nvPr/>
        </p:nvSpPr>
        <p:spPr>
          <a:xfrm>
            <a:off x="2652840" y="1781280"/>
            <a:ext cx="446040" cy="43164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0b0bf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право 7"/>
          <p:cNvSpPr/>
          <p:nvPr/>
        </p:nvSpPr>
        <p:spPr>
          <a:xfrm>
            <a:off x="5429160" y="1792440"/>
            <a:ext cx="436680" cy="4302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0b0bf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право 8"/>
          <p:cNvSpPr/>
          <p:nvPr/>
        </p:nvSpPr>
        <p:spPr>
          <a:xfrm>
            <a:off x="2365200" y="3363840"/>
            <a:ext cx="574920" cy="4111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b0bfd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" descr="E:\AH 1\Снимок2.PNG"/>
          <p:cNvPicPr/>
          <p:nvPr/>
        </p:nvPicPr>
        <p:blipFill>
          <a:blip r:embed="rId7"/>
          <a:srcRect l="0" t="0" r="59636" b="0"/>
          <a:stretch/>
        </p:blipFill>
        <p:spPr>
          <a:xfrm>
            <a:off x="6046920" y="2860560"/>
            <a:ext cx="2014560" cy="1541520"/>
          </a:xfrm>
          <a:prstGeom prst="rect">
            <a:avLst/>
          </a:prstGeom>
          <a:ln w="28440">
            <a:solidFill>
              <a:srgbClr val="0b0bf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464652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0" y="195120"/>
            <a:ext cx="90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ы собственных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E:\AH 1\рисунок 2.tif"/>
          <p:cNvPicPr/>
          <p:nvPr/>
        </p:nvPicPr>
        <p:blipFill>
          <a:blip r:embed="rId2"/>
          <a:stretch/>
        </p:blipFill>
        <p:spPr>
          <a:xfrm>
            <a:off x="4284720" y="700200"/>
            <a:ext cx="4535280" cy="1120680"/>
          </a:xfrm>
          <a:prstGeom prst="rect">
            <a:avLst/>
          </a:prstGeom>
          <a:ln w="38160">
            <a:solidFill>
              <a:srgbClr val="0b0bfd"/>
            </a:solidFill>
            <a:miter/>
          </a:ln>
        </p:spPr>
      </p:pic>
      <p:pic>
        <p:nvPicPr>
          <p:cNvPr id="105" name="Picture 4" descr="E:\AH 1\рисунок 3.tif"/>
          <p:cNvPicPr/>
          <p:nvPr/>
        </p:nvPicPr>
        <p:blipFill>
          <a:blip r:embed="rId3"/>
          <a:stretch/>
        </p:blipFill>
        <p:spPr>
          <a:xfrm>
            <a:off x="4316400" y="1995480"/>
            <a:ext cx="4537080" cy="1589040"/>
          </a:xfrm>
          <a:prstGeom prst="rect">
            <a:avLst/>
          </a:prstGeom>
          <a:ln w="38160">
            <a:solidFill>
              <a:srgbClr val="0b0bfd"/>
            </a:solidFill>
            <a:miter/>
          </a:ln>
        </p:spPr>
      </p:pic>
      <p:sp>
        <p:nvSpPr>
          <p:cNvPr id="106" name="TextBox 4"/>
          <p:cNvSpPr/>
          <p:nvPr/>
        </p:nvSpPr>
        <p:spPr>
          <a:xfrm>
            <a:off x="4535640" y="3622680"/>
            <a:ext cx="4230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квенсы участка гена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BE3B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47567858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&gt; 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5" descr=""/>
          <p:cNvPicPr/>
          <p:nvPr/>
        </p:nvPicPr>
        <p:blipFill>
          <a:blip r:embed="rId4"/>
          <a:stretch/>
        </p:blipFill>
        <p:spPr>
          <a:xfrm>
            <a:off x="0" y="798480"/>
            <a:ext cx="42861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4"/>
          <p:cNvSpPr/>
          <p:nvPr/>
        </p:nvSpPr>
        <p:spPr>
          <a:xfrm>
            <a:off x="0" y="0"/>
            <a:ext cx="9252000" cy="519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0" y="71280"/>
            <a:ext cx="9109080" cy="113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исунок 1. Частота гаплотипа АН1 у быков айрширской породы используемых в системе искусственного осеменения РФ в зависимости от их линейной принадле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Диаграмма 6"/>
          <p:cNvGraphicFramePr/>
          <p:nvPr/>
        </p:nvGraphicFramePr>
        <p:xfrm>
          <a:off x="755640" y="852480"/>
          <a:ext cx="7704000" cy="42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52480"/>
                    <a:ext cx="770400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06:47:33Z</dcterms:created>
  <dc:creator>user</dc:creator>
  <dc:description/>
  <dc:language>en-US</dc:language>
  <cp:lastModifiedBy>Наталия Дементьева</cp:lastModifiedBy>
  <cp:lastPrinted>2016-12-12T09:59:33Z</cp:lastPrinted>
  <dcterms:modified xsi:type="dcterms:W3CDTF">2020-02-26T15:54:34Z</dcterms:modified>
  <cp:revision>598</cp:revision>
  <dc:subject/>
  <dc:title>НАЗВАНИЕ</dc:title>
</cp:coreProperties>
</file>