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6.jpeg" ContentType="image/jpeg"/>
  <Override PartName="/ppt/media/image11.png" ContentType="image/png"/>
  <Override PartName="/ppt/media/image19.jpeg" ContentType="image/jpeg"/>
  <Override PartName="/ppt/media/image15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wmf" ContentType="image/x-wmf"/>
  <Override PartName="/ppt/media/image30.jpeg" ContentType="image/jpeg"/>
  <Override PartName="/ppt/media/image17.wmf" ContentType="image/x-wmf"/>
  <Override PartName="/ppt/media/image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8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gradFill rotWithShape="0">
            <a:gsLst>
              <a:gs pos="0">
                <a:srgbClr val="fdeada"/>
              </a:gs>
              <a:gs pos="100000">
                <a:srgbClr val="e6dcac"/>
              </a:gs>
            </a:gsLst>
            <a:lin ang="189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0DB1-D21F-4488-8FE5-B0CA07BF0E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промышленность РФ является неотъемлемой частью АПК страны, а ее основная задача – гарантировано и стабильно обеспечивать население страны безопасными и качественными моло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CBF-354E-4509-A8FE-48785F2570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молока по районам области представлено на слайде. Сегодняшние 7 районов выделены на слайде красным цв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B5F-E1D2-4798-9F28-5E7514CFB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одуктивности молока в красную зону вошли района Вытегорский, Бабаевский, Вожегодский, Вашкинский с продуктивностью менее 5 тыс. кг на корову. В желтой зоне Белозерский Чагодощенский р-н с продуктивность менее 6 тыс. кг. Устюженский приближается к среднеобластному уров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ED99-4AA2-40B9-AD5B-9EB52B135F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ом слайде мы видим, что в области в основном преобладает черно-пестрая порода и составляет 69% пробонитировано 62 332 головы, 14% - составляет холмогоркая порода КРС данную породу в основном разводят в восточных районах области. Основной массив животных данной породы сосредоточен в ЗАО «Агрофирма имени Павлова» Никольского района и ООО СХПК «Устюгмолоко» Велико-Устюгского района. Так же небольшое поголовье разводиться в хозяйствах Верховаж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% - в структуре стада занимает айрширская порода КРС, разведением данной породы в области заним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 районах обла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 Вологодском районе 3 организации – это: СХПК «Племзавод Майский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К «Агрофирма Красная Звезда» данные организации имеют статус племенного завода по разведению айрширской породы  и ООО «Лактис» (бывшее «Надеево» которое, тоже в свое время имело статус племенного хозяйства по данной породе). В Чагодощенском районе – 4 хозяйства из 6 занимаются разведением айрширки и в Устюженском районе – айрширка разводиться в отделении Долоцкое ООО «Агромилк» к сожалению в последние 2 года данное хозяйство не проводит бонитировку по причине нехватки специалистов и в процессе ре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лавская порода у нас традиционно разводиться в Шекснинском районе – АО «Шексна» (племенной репродуктор), СПК «Русь», Колхоз имени Суворова и немного в СПК «Ни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дением голштинской породы у нас в области занимается одно хозяйство – АО «Племзавод Заря» Грязовец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оперативной отчетности по состоянию на 01.01.2020 года в сельскохозяйственных организациях и в крестьянских фермерских хозяйствах содержится – 158 546 голов КРС всего из них 89 998 голов пробонитировано, что составляет 57 %. Данный процент низок из-за того, В племенных организациях бонитировка проведена – 100%, с сельскохозяйственных организациях област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области пробонитировано – 89 998 голов КРС всего из 158 546 голов коров, бонитировкой охвачено 100 % -племенных организаций области, более 97 % сельхозорганизаций области и в КФХ пробонитировано – менее 10 % и то, это  в большинстве  крупные КФХ, небольшие КФХ, к сожалению,  не проводят оценку животных по комплексу призна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9,4 % пробонитированного поголовья относится к классу элита-рек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E9CA-AB24-4058-B675-E04B6CFF6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коров 1 и 2 отела составляет основной массив в структуре растелившихся коров, 3 отела – 19 %, 4-5 – 19%  это говорит о снижении продолжительности производственного использования коров в связи с увеличением проду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099-4DE7-4729-BDE0-B3EA28547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30160" y="1857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02680" y="4001760"/>
            <a:ext cx="6481800" cy="6018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в области реализуется порядка 15 инвестиционных проектов, наиболее крупные инвестиционные про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АО «Заря» (Вологодский район) реализует инвестиционный проект по строительству животноводческой фермы на 1400 голов коров и 1728 голов молодняка вблизи д. Гончарка Вологодского района. Стоимость проекта - 958 млн. рублей. В 2017 году завершено строительство первой очереди, в 2019 году - второй очереди инвестиционного проекта. Строительство третьей очереди (два телятника на 1,4 тыс. скотомест) планируется в 2021-2022 г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К «Тотемский» (Тотемский район) реализует инвестиционный проект по строительству животноводческого комплекса Ивойлово общим содержанием 800 голов коров. Стоимость проекта - 240 млн. рублей. Запуск объекта планируется в первом квартале 2020 г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ОО СХП «Устюгмолоко» (Великоустюгский район) реализует инвестиционный проект по строительству животноводческого комплекса общим содержанием 2222 голов КРС. Стоимость проекта - 509 млн. рублей. В августе 2019 года завершена реализация 1-й очереди инвестиционного проекта, начало строительства второй очереди планируется в 2020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8C9F-EB7E-4C85-8925-332F25FD5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2019 год молочными предприятиями переработано молока-сырья на 9,8 % больше, чем в 2018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ереработки местного сырья составляет почти 84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8BE-809B-45D5-A174-87BEE7394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7D8B-1D25-41EE-93D8-1A205CB0E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ую переработку молока осуществляют 18 пред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и предприятиями перерабатывается до 88% областных объемов молока-сыр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тогам 2019 года молокоперабатывающими  организациями произведено молочных продуктов на 24,9 млрд. рублей (или +14,1%  к уровню 2018 года)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роизводства молочной продукции за 2019 год составил 103,4%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молочных сгущенных увеличилось на 20% и составило 8,77 тыс. усл. банок, сухого молока и сливок на 14,0% (5,6 тыс. тонн), творога на 8,3% (11,7 тыс. тонн), кисломолочной продукции на 4,9% (47,3 тыс. тонн), сыра на 6,5% (3,4 тыс. тонн); молока жидкого на 3,9% (156,2 тыс. тон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ы производства сливок и сметаны увеличились незначительно: сливок произведено 3,1 тыс. тонн (+2,1% к уровню 2018 года), сметаны произведено 14,1 тыс. тонн (+1,6% к уровню 2018 г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лом по отрасли сохраняется тенденция поступательного наращивания объемов производства в молочной промышленности региона. Тем не менее, анализируя деятельность предприятий области, можно отметить, что по отдельным молочным заводам идет снижение производства масла сливочного и цельномолочной продукции, при этом перерабатываемый объем молока-сырья некоторыми производителями переориентирован на выпуск сы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9 году незначительное снижение (98,5%) отмечено в производстве мороженого, что является отражением общей картины по Российской Федерации, связанной со снижением спроса на продукцию из-за прохладного летнего периода. При этом сохранить объемы производства практически на уровне прошлого года позволили грамотный менеджмент на ООО «Вологодское мороженое», а также развитие экспортного потенциала (предприятие ежемесячно отгружает до 400 тонн мороженого в ряд стран мира: Китай, Израиль, Вьетнам, а также африканские страны (Кот-д’Ивуар, Сенега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712-64DF-4F16-AF59-0FE8C7808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0FA5-FA4F-4ADA-B2CE-CD8115A72D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последних 5 лет молокоперерабатывающая промышленность Вологодской области активно проводит модернизацию, внедряя передовые, инновационные технологии. Практически на всех предприятиях данного сектора проведена реконструкция и модернизация. В июне 2019 года в г. Вологде на ООО «Вологодское мороженое» запущена новая линия по производству и фасовке Вологодского пломбира, производительность которой составила 25 тонн мороженого в сутки. В настоящее время в молочной отрасли региона реализуются следующие инвестиционные проекты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дит комплексная реконструкция завода ОАО «Северное молоко» в г. Грязовце с целью создания крупного современного молочного предприятия с объемом переработки молочного сырья до 500 тонн в сутки, соответствующего требованиям проектных, санитарно-гигиенических норм, лучших российских и мировых практик молочного производства с перспективой дальнейшего развития предприятия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 «НеваМилк» реализуется проект по строительству завода по производству сыров и масла сливочного в г. Череповце. На заводе будет перерабатываться порядка 200 тонн молока в сутки, что позволит производить 550 тонн полутвердых желтых сыров и 60 тонн масла сливочного в месяц, или 7,3 тыс. тонн готовой продукции в год при полной загрузк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аслозавод Тотемский» реализуется проект по модернизации приемно-аппаратного цеха (увеличение емкостного оборудования, строительство заквасочной, замена пастеризационно-охладительной установки и пр.), также проходит реконструкция действующего производства молочной продукции – творожного цеха (автоматизация процесса производства и фасовки, установка вентиляции, замена канализации и полов), цеха цельномолочной продукции (замена полов, вентиляции), маслоцеха (автоматизация процесса фасовки масла, усовершенствование вентиляции цеха). Реконструкция позволит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и перерабатывать до 60 тонн сырья в сутки (в настоящий момент 20 тонн), в ближайшее время предприятие приступит к поиску местных производителей молока для расширения сырьевой баз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 в последние годы наблюдается рост производства сырого молока, который во многом представляет собой реакцию на увеличение мирового спроса на молочну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лижайшие годы, по прогнозам экспертов, увеличение производства молока всех видов в мире продолжится преимущественно благодаря развивающимся странам–Индии, Бразилии, Аргентине, Китаю, Пакистану. Среднегодовые темпы прироста глобального производства останутся вблизи 2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8A92-DE00-4606-B1E2-1BB2F639C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E22-3148-464C-B531-7B4461065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перспективных направлений для развития молокоперерабатывающей промышленности области можно выделить ориентацию работы предприятий в сторону безотходных технологий, плюсы которой заключаются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– глубокая переработка молока позволит не только снизить количество вторичных молочных продуктов (молочной сыворотки), но и снизить количество используемого сырьевого молока для производства единицы продукции. Улучшение качества продукта – снижение объемов молочной сыворотки (в основном – творожной сыворотки и подсырной сыворотки), позволит оставить большую часть полезных веществ сыворотки в готовом продукте. Способствует решению экологических вопросов – молочная сыворотка не пригодна к выбросу ее через канализационные стоки из-за химического состава и уровня кисло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о в Вологодской области вырабатывается до 76 тыс. тонн молочной сыворотки в год, исходя из проектных мощностей предприятия могут вырабатывать более 100 тыс. тон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географии поставок за счет вывоза в регионы России, малообеспеченные молочными продуктами (Сибирь, Дальний Восток, северные регионы), а также за счет развития экспортного потенциала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м проектом для продовольственного сектора является выпуск органической продукции, свой сегмент в которой займет и молоч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участие в системе государственных закупок представляет возможности для увеличения объем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требление основных молочных продуктов населением в мире ежегодно растет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акторы рост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ост уровня жизни,  рост мировой экономик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зменение потребительских предпочтений, появление и рост интереса к молочной продукции в отдельных региона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развитие рынка молочной продукции также оказывают влияние глобальные потребительские тренды, такие как растущее внимание к заботе о здоровье, увлечение спортом, активным образом жизни и здоровым питанием. На сегодня наиболее популярны: функциональные продукты, которые содержат большое количество так называемых биологически активных компонентов, к которым относятся: молочнокислые бактерии и пробиотики, витамины, пищевые волокна и другие вещества. Пользуются спросом продукты без добавления сахара, а с добавлением злаков и семян. Также в сознании как российских, так и зарубежных потребителей продукты с высоким содержанием белка стойко ассоциируются с пользой и здоровьем. Тренд на «порционную упаковку» действует и на молочные продукты. В отрасли появляется больше новинок, употребление которых удобно в любом месте. Это питьевые йогурты и коктейли в небольших и практичных бутылках и стаканчиках с трубочкой, ложечко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CC15-CEC0-46D2-BE81-8108773EF2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варительным данным за 2019 год объём производства молока-сырья в России составил - 31,3 млн. тонн во всех формах хозяйствования, что на 2,3% больше показателей 2018 г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ланам Минсельхоза прогнозы на 2020 год составляют 31,6-32 млн. тонн. Планы амбициозные, реальный прогноз - 31,6 млн. тонн. Сейчас в России реализуется много инвестпроектов и закупается высокопродуктивный скот. Кроме того, по новым правилам, Минсельхозом убраны ограничения по импорту племенного скота, что позволит добиться высоких показателей, при этом делается ставка и на российский племенной скот и развитие генетик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 для переработчиков более актуально производство товарного молока, показатели по которому в последние годы растут, но тем не менее объемы составляют 50-60% от общего производства. Значительный вклад в прирост товарного молока вносят сельхозорганизации, а количество товарного молока в частном секторе сокращает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885B-E2E0-4D30-BF9B-7EBCE5D52C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9 году практически оправдались прогнозы экспертов: импорт вырос на 7-10% по сравнению с уровнем 2018 года (6,5 млн. тонн), когда был зафиксирован минимум за последние 15 лет. Тенденция минимального ввоза молочной продукции продолжит сохра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ерка стран-поставщиков молочной продукции в Россию осталась в том же соста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нешним поставщиком молочной продукции в Россию остается Республика Беларусь - 73% от ввозимой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равнению с 2018 годом произошла замена поставщиков на 2 и 4 месте. На второе место вышла Новая Зеландия (6%) из-за увеличения экспорта в Россию цельного сухого молока и сливочного ма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следуют Аргентина (5%) и Уругвай (5%), замыкает топ-5 стран-поставщиков Казахстан (2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публика Беларусь по-прежнему занимает лидирующие позиции во внешних поставках большинства видов молочной продукции. Более 80% в структуре внешних поставок молока питьевого, сухого обезжиренного молока, сыров приходится на Белоруссию. 100% ввозимого творога – это поставки из Белоруссии. Около 50% приходится на сухое цельное молоко и сырные продукты, 37% - на мороженое. Масла сливочного из Белоруссии завозится не более 6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CA5-E6DD-4DEB-A375-255D39D39E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внешними потребителями российской молочной продукции остаются страны СНГ (что составляет до 90% экспорта), в т.ч. Казахстан и Украина. Среди стран вне СНГ – Монголия, Абхазия, Грузия и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экспорта по итогам 11 мес. 2019 г. превысил уровень 2018 г. и составил  605,7 тыс.тонн (+4%) на сумму 290,5 млн. долларов США (+7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на экспорт отгружаются сыры и сырные продукты, мороженое, сухие молочные  и кисломолочные продукты, в т. ч. тв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до 20% отмечается сокращение поставок сливочного масла и питьевого молока и сливок; до 3% снизился вывоз сухого молока и сыворотки. Относительно поставок мороженого в Китай – также зафиксировано снижение объемов до 7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F95F-BFD7-4FC8-9097-B083A4B2B2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осстата реальные располагаемые доходы россиян (доходы за вычетом обязательных платежей и пересчитанные с учетом инфляции) за 2019 год выросли по сравнению с 2018 годом на 0,8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ежегодно Росстат фиксирует падение потребления молочных продуктов: если в 90- е годы среднестатистический россиянин потреблял 380 - 390 кг в год, то к 2018 году этот показатель был уже на уровне 229 кг. По предварительным расчетам потребление молочной продукции по России за 2019 год увеличилось на 3%, аналитики предоставляют оптимистичный прогноз – 235 кг. При этом медицинская норма потребления - 325 кг в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логодской области потребление молока и молочных продуктов в 2018 году составило 230 кг, в 2019 этот показатель прогнозно оценивается в 235 кг. Таким образом, по данному показателю Вологодская область соответствует среднероссийским тенден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амообеспеченности молоком и молочными продуктами по России за 2019 год составил 84,4% (при установленной норме по Доктрине продовольственной безопасности 90%) что создает предпосылки для развития отрасли и наращивания экспортного потенциала для отдельных регионов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F21-E96E-4047-8E60-FBAC1B6CCB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е скотоводство в Вологодской области является традиционной отраслью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головье к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зяйствах всех категорий на 1 января 2020 года составило 76,5 тыс. голов (99,4% к 2018 году, 70% к уровню 2005 год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инирующее положение по численности занимают коровы черно-пестрой породы, 68,8 тыс. голов (70,6 %), на втором месте – холмогорской породы 12,1 тыс. голов (12,4 %) и на третьем месте - айрширская порода - 8 тыс. голов (8,2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показатели обеспечены за счет целенаправленной племенной работы, внедрения современных технологий, модернизации систем содержания, питания животных и благодаря стабильной государственной поддерж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918-D0AD-40B0-8E03-AB16C1A137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19 году производство молока в хозяйствах всех категорий составило 559,7 тыс. тонн (+5,2% к 2018 году, +19% к 2005 году), что стало самым высоким показателем за 15 лет. Отмечается стабильность в наращивании объемов производства молока около 5 %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одуктивности коров в сельхозорганизациях области достигнут абсолютный исторический рекорд: в 2018 году надой впервые превысил 7000 кг на корову, а по итогам 2019 года продуктивность составила 7568 кг (+5,6% к 2018 году, +83% к 2005 году). По предварительным оценкам продуктивность вологодских предприятий опережает среднероссийскую на 1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показатели обеспечены за счет целенаправленной племенной работы, внедрения современных технологий, модернизации систем содержания, питания животных и благодаря стабильной государственной поддержке агра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BB7D-7BBC-43C0-BD24-00EFB0667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8F6-FFA9-4E70-8D98-6C0F83C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81F-2EF4-459E-8BB5-958AE7A3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D51-0163-46AF-BC76-FD93BC5A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06E-B944-4CAE-84B7-EE96A9E1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F92-611E-4086-99FC-0E83020D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F1FF-EC23-4EDA-BFBF-F69FAE0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FAFB-02B4-4614-BC2D-582D295A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0298-5FC1-42C7-BDFA-4A75131A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17C3-2F5A-4AF8-AE79-A01E1E4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6AA-4756-4239-93AB-8A2DA252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1AF-2EC3-4C9B-A5E5-5A48BC6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B2D-B2F8-4A41-8305-D780817D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AEA-A857-49C3-9B02-0A49983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2A92-9533-4A41-9BD9-D5B33DB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054-4F20-4457-926A-A039AC3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8FD3-CEA7-4412-83D8-DADA52D8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9A0E-4DE2-4EEE-8DC7-2AD19A57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93A8A-0E3E-4E38-97FD-85903BA7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AC800-5068-4D86-BF2F-99A50731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B3F93-F13D-465F-B6BA-A8EC6F1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35F7B-A7E1-4B46-9CA3-3304394F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9235A-66EC-4E31-B0B4-EB6C92B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456-1791-42F9-84DC-FC698819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72023-ABDF-4A66-B5AE-D1568091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9506F-658C-4962-90D8-00B4761C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10E19-1D4A-4746-8FE5-ADF9052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EA2E8-F49C-4AAA-A63D-A3D5A0F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6BD40-F312-4897-ABFD-050561EE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2F645-56BA-416F-BFC2-45829A7B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31A74-BA4F-4E5B-880A-0291AA4A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E99-11D2-4616-BFEA-9CEDE33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F8F-7593-40E3-8C15-13579871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463-AC51-4563-AD29-59BE10B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E18-F69B-49FC-B857-D48B9FD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8A6-1870-4DC6-9925-2848E37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BB2-4B11-439D-8F2F-E02B56C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8F33-7A4F-49E3-B3C4-EAA87FA45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3A70-AF05-43F2-B879-E941727845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323D-BF05-4B03-A7B4-0CCCE31A39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4"/>
          <p:cNvSpPr/>
          <p:nvPr/>
        </p:nvSpPr>
        <p:spPr>
          <a:xfrm>
            <a:off x="1547640" y="4046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сельского хозяйства и продовольствен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од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9" descr="C:\Documents and Settings\EDubova\Рабочий стол\герб.gif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витие молочной отрасли </a:t>
            </a:r>
            <a:br>
              <a:rPr sz="4300"/>
            </a:br>
            <a:r>
              <a:rPr b="1" lang="ru-RU" sz="43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логодской области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1619280" y="508464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бова Екатерина Анатольевна– начальник отдела животноводства, племенного дела и продовольственных ресурсов Департ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261000" y="6237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Calibri"/>
              </a:rPr>
              <a:t>28.02.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74af"/>
                </a:solidFill>
                <a:latin typeface="Calibri"/>
              </a:rPr>
              <a:t>Производство молока по район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2"/>
          <a:stretch/>
        </p:blipFill>
        <p:spPr>
          <a:xfrm>
            <a:off x="390600" y="828720"/>
            <a:ext cx="83199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74af"/>
                </a:solidFill>
                <a:latin typeface="Calibri"/>
              </a:rPr>
              <a:t>Надой молока на 1 корову в сельскохозяйственных организациях области в 2019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Объект 3" descr=""/>
          <p:cNvPicPr/>
          <p:nvPr/>
        </p:nvPicPr>
        <p:blipFill>
          <a:blip r:embed="rId2"/>
          <a:stretch/>
        </p:blipFill>
        <p:spPr>
          <a:xfrm>
            <a:off x="171360" y="1189080"/>
            <a:ext cx="8734680" cy="54928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ая соединительная линия 5"/>
          <p:cNvSpPr/>
          <p:nvPr/>
        </p:nvSpPr>
        <p:spPr>
          <a:xfrm>
            <a:off x="7451640" y="1628640"/>
            <a:ext cx="73080" cy="446436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7859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одная структура стада крупного рогатого скота в Вологодской области, %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о данным бонитировки за 2019 год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457200" y="1987560"/>
            <a:ext cx="8229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пределение пробонитированных коров по числу отелов (2019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Объект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Характеристика коров по молочной продуктив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Объект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95280" y="1268280"/>
          <a:ext cx="8424720" cy="2592360"/>
        </p:xfrm>
        <a:graphic>
          <a:graphicData uri="http://schemas.openxmlformats.org/drawingml/2006/table">
            <a:tbl>
              <a:tblPr/>
              <a:tblGrid>
                <a:gridCol w="2482920"/>
                <a:gridCol w="993600"/>
                <a:gridCol w="1060560"/>
                <a:gridCol w="1008000"/>
                <a:gridCol w="936720"/>
                <a:gridCol w="934920"/>
                <a:gridCol w="1008000"/>
              </a:tblGrid>
              <a:tr h="347760">
                <a:tc gridSpan="7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ология доени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автоматических доильных станц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доильном зал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молокопровод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5" descr="D:\фото\gjrhjdcrjt\IMG_20180530_153107.jpg"/>
          <p:cNvPicPr/>
          <p:nvPr/>
        </p:nvPicPr>
        <p:blipFill>
          <a:blip r:embed="rId1"/>
          <a:stretch/>
        </p:blipFill>
        <p:spPr>
          <a:xfrm>
            <a:off x="971640" y="4149720"/>
            <a:ext cx="3240000" cy="233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4" descr="D:\Разное\Презентации\робот.jpg"/>
          <p:cNvPicPr/>
          <p:nvPr/>
        </p:nvPicPr>
        <p:blipFill>
          <a:blip r:embed="rId2"/>
          <a:stretch/>
        </p:blipFill>
        <p:spPr>
          <a:xfrm>
            <a:off x="4788000" y="414972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9"/>
          <p:cNvSpPr/>
          <p:nvPr/>
        </p:nvSpPr>
        <p:spPr>
          <a:xfrm>
            <a:off x="324000" y="333360"/>
            <a:ext cx="85690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головье коров обслуживаемое на разных видах доильных установках, в процентах от общего числа к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640720" cy="11127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руктура использования сырого молока, произведенного хозяйствами всех категорий в 2019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465440" y="27748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ject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80360" cy="1008000"/>
          </a:xfrm>
          <a:prstGeom prst="rect">
            <a:avLst/>
          </a:prstGeom>
          <a:noFill/>
          <a:ln w="1908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Структура молокоперерабатывающей отрасли в 2019</a:t>
            </a: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году (доля переработки сырого молока, 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1484280"/>
            <a:ext cx="9144000" cy="7308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f9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128600"/>
          <a:ext cx="9036000" cy="5729400"/>
        </p:xfrm>
        <a:graphic>
          <a:graphicData uri="http://schemas.openxmlformats.org/drawingml/2006/table">
            <a:tbl>
              <a:tblPr/>
              <a:tblGrid>
                <a:gridCol w="3435480"/>
                <a:gridCol w="3074760"/>
                <a:gridCol w="136800"/>
                <a:gridCol w="238896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дущие предпри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ые и микр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3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К «ВМК»                   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Северное молоко»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«УОМЗ» ВГМХА»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К «Шекснинский 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»     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МЗ Устюгмолоко»   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ЧМК»                          4,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Сухонский молочный комбинат»                            4,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Тарногский маслозавод»                  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Вологодское мороженое»                   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 «Агрофирма им. Павлова»                      1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Маслозавод Тотемский»                   1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Белокрестский маслозавод»                   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 «Вологодский Молочный АПК»           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Нюксенский маслозаво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Молок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ПК Род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ФХ Шибанов В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«Сыроварня3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от перерабатываемого в области мол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Производство молочных продуктов за 2019 год молокоперерабатывающими предприятиями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08000" y="1844280"/>
            <a:ext cx="71280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номолочная продукция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9,8 тыс. тонн (10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ло сливочное –  9,0 тыс. тонн (120,4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ыр и продукты сырные – 3,4 тыс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н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106,5 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очные консервы – 876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с. усл. банок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око сухое – 5,6 тыс. тонн (114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C:\Documents and Settings\EDubova\Мои документы\конференции и семинары\12 декабря Лючшее молоко\1.jpg"/>
          <p:cNvPicPr/>
          <p:nvPr/>
        </p:nvPicPr>
        <p:blipFill>
          <a:blip r:embed="rId1"/>
          <a:stretch/>
        </p:blipFill>
        <p:spPr>
          <a:xfrm>
            <a:off x="250920" y="1557360"/>
            <a:ext cx="1619280" cy="93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Documents and Settings\EDubova\Мои документы\конференции и семинары\12 декабря Лючшее молоко\масло.jpeg"/>
          <p:cNvPicPr/>
          <p:nvPr/>
        </p:nvPicPr>
        <p:blipFill>
          <a:blip r:embed="rId2"/>
          <a:stretch/>
        </p:blipFill>
        <p:spPr>
          <a:xfrm>
            <a:off x="235080" y="245736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C:\Documents and Settings\EDubova\Мои документы\конференции и семинары\12 декабря Лючшее молоко\сыры.jpg"/>
          <p:cNvPicPr/>
          <p:nvPr/>
        </p:nvPicPr>
        <p:blipFill>
          <a:blip r:embed="rId3"/>
          <a:stretch/>
        </p:blipFill>
        <p:spPr>
          <a:xfrm>
            <a:off x="309600" y="3321000"/>
            <a:ext cx="1595520" cy="93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Documents and Settings\EDubova\Мои документы\конференции и семинары\12 декабря Лючшее молоко\сгущеное молоко.jpg"/>
          <p:cNvPicPr/>
          <p:nvPr/>
        </p:nvPicPr>
        <p:blipFill>
          <a:blip r:embed="rId4"/>
          <a:stretch/>
        </p:blipFill>
        <p:spPr>
          <a:xfrm>
            <a:off x="243000" y="4437000"/>
            <a:ext cx="1619280" cy="87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C:\Documents and Settings\EDubova\Мои документы\конференции и семинары\12 декабря Лючшее молоко\сухое молоко.jpeg"/>
          <p:cNvPicPr/>
          <p:nvPr/>
        </p:nvPicPr>
        <p:blipFill>
          <a:blip r:embed="rId5"/>
          <a:stretch/>
        </p:blipFill>
        <p:spPr>
          <a:xfrm>
            <a:off x="200160" y="5504040"/>
            <a:ext cx="1620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86364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Calibri"/>
              </a:rPr>
              <a:t>Модернизация и инвестиционные проекты в молокоперерабатывающей отрас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197000"/>
          <a:ext cx="8569080" cy="5486400"/>
        </p:xfrm>
        <a:graphic>
          <a:graphicData uri="http://schemas.openxmlformats.org/drawingml/2006/table">
            <a:tbl>
              <a:tblPr/>
              <a:tblGrid>
                <a:gridCol w="2303280"/>
                <a:gridCol w="626580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9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Северное молок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реконструкция молочного завода в г. Грязовце (приемно-аппаратный цех, цеха по производству сливочного масла и сухих молочных продуктов), создание современного предприятия с объемом переработки молочного сырья до 500 тонн в сут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: 3 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реализации: 2018 – 2021 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К «НЕВА МИЛ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 завода по производству полутвердых сыров и масла сливочного в г. Череповце с объемом переработки молочного сырья до 200 тонн в сут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: 1,7 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реализации: 2018 - 2023 г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05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Маслозавод Тотемск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рнизация приемно-аппаратного цеха, реконструкция творожного цеха, маслоцеха, цеха молочной продукции, складов, вспомогательных помещений, благоустройство территор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нового производственного процесса – молодого сыра Чедд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переработки до 60 тонн сырья в сут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: 150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реализации: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 – апрель 2020 г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Вологодское морожено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ая современная линия по производству и фасовке мороженого – «Вологодский пломбир» в стаканчиках, производственная мощ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тонн готовой продукции в сутк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: 100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 реализации:  июн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2236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ировой молочный рынок в 2019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34920" y="1116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товарного молока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95280" y="1681200"/>
            <a:ext cx="440064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4284720" cy="129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4500720" y="5084640"/>
            <a:ext cx="4441680" cy="1440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3"/>
          <p:cNvSpPr/>
          <p:nvPr/>
        </p:nvSpPr>
        <p:spPr>
          <a:xfrm>
            <a:off x="5364000" y="10652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ны с наиболее быстрым ростом производства молока в 201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15" descr=""/>
          <p:cNvPicPr/>
          <p:nvPr/>
        </p:nvPicPr>
        <p:blipFill>
          <a:blip r:embed="rId4"/>
          <a:stretch/>
        </p:blipFill>
        <p:spPr>
          <a:xfrm>
            <a:off x="5559480" y="2073240"/>
            <a:ext cx="3352680" cy="245592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6659640" y="6524640"/>
            <a:ext cx="2484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с использованием материалов СОЮЗМОЛОК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4000" cy="792000"/>
          </a:xfrm>
          <a:prstGeom prst="rect">
            <a:avLst/>
          </a:prstGeom>
          <a:noFill/>
          <a:ln w="28440">
            <a:solidFill>
              <a:srgbClr val="37609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Calibri"/>
              </a:rPr>
              <a:t>Перспективные направления развития молокоперерабатывающей промышлен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8"/>
          <p:cNvGrpSpPr/>
          <p:nvPr/>
        </p:nvGrpSpPr>
        <p:grpSpPr>
          <a:xfrm>
            <a:off x="108000" y="907920"/>
            <a:ext cx="3384360" cy="2449800"/>
            <a:chOff x="108000" y="907920"/>
            <a:chExt cx="3384360" cy="2449800"/>
          </a:xfrm>
        </p:grpSpPr>
        <p:sp>
          <p:nvSpPr>
            <p:cNvPr id="229" name="Скругленный прямоугольник 9"/>
            <p:cNvSpPr/>
            <p:nvPr/>
          </p:nvSpPr>
          <p:spPr>
            <a:xfrm>
              <a:off x="108000" y="1123920"/>
              <a:ext cx="3384360" cy="223380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Скругленный прямоугольник 4"/>
            <p:cNvSpPr/>
            <p:nvPr/>
          </p:nvSpPr>
          <p:spPr>
            <a:xfrm>
              <a:off x="258120" y="907920"/>
              <a:ext cx="3185280" cy="20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Безотходные технолог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еработка вторичных сырьевых ресурсов, глубокая переработка сывор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Группа 18" descr=""/>
          <p:cNvPicPr/>
          <p:nvPr/>
        </p:nvPicPr>
        <p:blipFill>
          <a:blip r:embed="rId1"/>
          <a:stretch/>
        </p:blipFill>
        <p:spPr>
          <a:xfrm>
            <a:off x="4700520" y="1109520"/>
            <a:ext cx="4424400" cy="3060720"/>
          </a:xfrm>
          <a:prstGeom prst="rect">
            <a:avLst/>
          </a:prstGeom>
          <a:ln w="0">
            <a:noFill/>
          </a:ln>
        </p:spPr>
      </p:pic>
      <p:pic>
        <p:nvPicPr>
          <p:cNvPr id="232" name="Группа 21" descr=""/>
          <p:cNvPicPr/>
          <p:nvPr/>
        </p:nvPicPr>
        <p:blipFill>
          <a:blip r:embed="rId2"/>
          <a:stretch/>
        </p:blipFill>
        <p:spPr>
          <a:xfrm>
            <a:off x="5126040" y="4784760"/>
            <a:ext cx="306720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33" name="Группа 29"/>
          <p:cNvGrpSpPr/>
          <p:nvPr/>
        </p:nvGrpSpPr>
        <p:grpSpPr>
          <a:xfrm>
            <a:off x="3492360" y="2276640"/>
            <a:ext cx="4319640" cy="2520720"/>
            <a:chOff x="3492360" y="2276640"/>
            <a:chExt cx="4319640" cy="2520720"/>
          </a:xfrm>
        </p:grpSpPr>
        <p:pic>
          <p:nvPicPr>
            <p:cNvPr id="234" name="Picture 6" descr=""/>
            <p:cNvPicPr/>
            <p:nvPr/>
          </p:nvPicPr>
          <p:blipFill>
            <a:blip r:embed="rId3"/>
            <a:stretch/>
          </p:blipFill>
          <p:spPr>
            <a:xfrm>
              <a:off x="4482000" y="3863520"/>
              <a:ext cx="2970000" cy="9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7" descr=""/>
            <p:cNvPicPr/>
            <p:nvPr/>
          </p:nvPicPr>
          <p:blipFill>
            <a:blip r:embed="rId4"/>
            <a:stretch/>
          </p:blipFill>
          <p:spPr>
            <a:xfrm>
              <a:off x="3492360" y="2276640"/>
              <a:ext cx="431964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Прямоугольник 30"/>
          <p:cNvSpPr/>
          <p:nvPr/>
        </p:nvSpPr>
        <p:spPr>
          <a:xfrm>
            <a:off x="5514840" y="1197000"/>
            <a:ext cx="2718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кспортный потенциа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1"/>
          <p:cNvSpPr/>
          <p:nvPr/>
        </p:nvSpPr>
        <p:spPr>
          <a:xfrm>
            <a:off x="4684680" y="1700280"/>
            <a:ext cx="3127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бъекты РФ с низкой обеспеченностью  мол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2"/>
          <p:cNvSpPr/>
          <p:nvPr/>
        </p:nvSpPr>
        <p:spPr>
          <a:xfrm>
            <a:off x="7704000" y="2492280"/>
            <a:ext cx="1548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едел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34"/>
          <p:cNvCxnSpPr/>
          <p:nvPr/>
        </p:nvCxnSpPr>
        <p:spPr>
          <a:xfrm flipH="1">
            <a:off x="6011280" y="1484280"/>
            <a:ext cx="648360" cy="21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36"/>
          <p:cNvCxnSpPr/>
          <p:nvPr/>
        </p:nvCxnSpPr>
        <p:spPr>
          <a:xfrm>
            <a:off x="7596360" y="1484280"/>
            <a:ext cx="576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41" name="Picture 2" descr=""/>
          <p:cNvPicPr/>
          <p:nvPr/>
        </p:nvPicPr>
        <p:blipFill>
          <a:blip r:embed="rId5"/>
          <a:stretch/>
        </p:blipFill>
        <p:spPr>
          <a:xfrm>
            <a:off x="0" y="2852640"/>
            <a:ext cx="3419640" cy="21859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5"/>
          <p:cNvSpPr/>
          <p:nvPr/>
        </p:nvSpPr>
        <p:spPr>
          <a:xfrm>
            <a:off x="539640" y="292428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огодская область производство сыворот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100 тыс. тонн/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Группа 11" descr=""/>
          <p:cNvPicPr/>
          <p:nvPr/>
        </p:nvPicPr>
        <p:blipFill>
          <a:blip r:embed="rId6"/>
          <a:stretch/>
        </p:blipFill>
        <p:spPr>
          <a:xfrm>
            <a:off x="1743120" y="48164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7375e"/>
                </a:solidFill>
                <a:latin typeface="Calibri"/>
              </a:rPr>
              <a:t>Мировое потребление молочных проду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6732720" y="1628640"/>
            <a:ext cx="2232000" cy="388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2016►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ыр +6,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ливочное масло +7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М +13,9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ЦМ -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399960" y="1052640"/>
            <a:ext cx="6116760" cy="4410000"/>
          </a:xfrm>
          <a:prstGeom prst="rect">
            <a:avLst/>
          </a:prstGeom>
          <a:ln w="0">
            <a:noFill/>
          </a:ln>
        </p:spPr>
      </p:pic>
      <p:sp>
        <p:nvSpPr>
          <p:cNvPr id="146" name="Заголовок 1"/>
          <p:cNvSpPr/>
          <p:nvPr/>
        </p:nvSpPr>
        <p:spPr>
          <a:xfrm>
            <a:off x="6659640" y="6524640"/>
            <a:ext cx="2484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с использованием материалов СОЮЗМОЛОК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Содержимое 4"/>
          <p:cNvGraphicFramePr/>
          <p:nvPr/>
        </p:nvGraphicFramePr>
        <p:xfrm>
          <a:off x="539640" y="836640"/>
          <a:ext cx="835344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836640"/>
                    <a:ext cx="835344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Заголовок 1"/>
          <p:cNvSpPr/>
          <p:nvPr/>
        </p:nvSpPr>
        <p:spPr>
          <a:xfrm>
            <a:off x="7740720" y="1916280"/>
            <a:ext cx="122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2556000" y="836640"/>
            <a:ext cx="57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1619280" y="90792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3276720" y="90792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067280" y="907920"/>
            <a:ext cx="57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5003640" y="90792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5940360" y="836640"/>
            <a:ext cx="5032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2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6804000" y="907920"/>
            <a:ext cx="57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395280" y="260280"/>
            <a:ext cx="874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274af"/>
                </a:solidFill>
                <a:latin typeface="Calibri"/>
              </a:rPr>
              <a:t>Производство товарного молока в РФ, млн. тон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Диаграмма 15" descr=""/>
          <p:cNvPicPr/>
          <p:nvPr/>
        </p:nvPicPr>
        <p:blipFill>
          <a:blip r:embed="rId3"/>
          <a:stretch/>
        </p:blipFill>
        <p:spPr>
          <a:xfrm>
            <a:off x="390600" y="3786120"/>
            <a:ext cx="84358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285840" y="1557360"/>
            <a:ext cx="8678880" cy="3959280"/>
          </a:xfrm>
          <a:prstGeom prst="rect">
            <a:avLst/>
          </a:prstGeom>
          <a:ln w="0">
            <a:noFill/>
          </a:ln>
        </p:spPr>
      </p:pic>
      <p:sp>
        <p:nvSpPr>
          <p:cNvPr id="160" name="Заголовок 1"/>
          <p:cNvSpPr/>
          <p:nvPr/>
        </p:nvSpPr>
        <p:spPr>
          <a:xfrm>
            <a:off x="539640" y="333360"/>
            <a:ext cx="8229600" cy="954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мпорт молочной продукции в Росс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6659640" y="6524640"/>
            <a:ext cx="2484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с использованием материалов СОЮЗМОЛОК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87280" y="1341360"/>
            <a:ext cx="8605800" cy="376092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260280"/>
            <a:ext cx="8713800" cy="9558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Экспорт молочной продукции из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6659640" y="6524640"/>
            <a:ext cx="2484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alibri"/>
              </a:rPr>
              <a:t>С использованием материалов СОЮЗМОЛОК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18920"/>
          </a:xfrm>
          <a:prstGeom prst="rect">
            <a:avLst/>
          </a:prstGeom>
          <a:noFill/>
          <a:ln w="19080">
            <a:solidFill>
              <a:srgbClr val="17375e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Потребление молока 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324000" y="3946680"/>
            <a:ext cx="3384360" cy="2651040"/>
          </a:xfrm>
          <a:prstGeom prst="rect">
            <a:avLst/>
          </a:prstGeom>
          <a:ln w="0">
            <a:noFill/>
          </a:ln>
        </p:spPr>
      </p:pic>
      <p:sp>
        <p:nvSpPr>
          <p:cNvPr id="167" name="Заголовок 1"/>
          <p:cNvSpPr/>
          <p:nvPr/>
        </p:nvSpPr>
        <p:spPr>
          <a:xfrm>
            <a:off x="684360" y="3789360"/>
            <a:ext cx="3382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реальных располагаемых доходов населения в 2019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7035840" cy="2448000"/>
          </a:xfrm>
          <a:prstGeom prst="rect">
            <a:avLst/>
          </a:prstGeom>
          <a:ln w="0">
            <a:noFill/>
          </a:ln>
        </p:spPr>
      </p:pic>
      <p:sp>
        <p:nvSpPr>
          <p:cNvPr id="169" name="Заголовок 1"/>
          <p:cNvSpPr/>
          <p:nvPr/>
        </p:nvSpPr>
        <p:spPr>
          <a:xfrm>
            <a:off x="4859280" y="3789360"/>
            <a:ext cx="33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самообеспеченности молоком и молочной продукцие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3814920" y="4403880"/>
            <a:ext cx="5329080" cy="2265120"/>
          </a:xfrm>
          <a:prstGeom prst="rect">
            <a:avLst/>
          </a:prstGeom>
          <a:ln w="0">
            <a:noFill/>
          </a:ln>
        </p:spPr>
      </p:pic>
      <p:sp>
        <p:nvSpPr>
          <p:cNvPr id="171" name="Заголовок 1"/>
          <p:cNvSpPr/>
          <p:nvPr/>
        </p:nvSpPr>
        <p:spPr>
          <a:xfrm>
            <a:off x="7667640" y="1413000"/>
            <a:ext cx="1225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реблениеза 2019 г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Ф и Волого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оценоч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35  кг/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ли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3-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Молочное животноводство Вологодской обла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2"/>
          <p:cNvGraphicFramePr/>
          <p:nvPr/>
        </p:nvGraphicFramePr>
        <p:xfrm>
          <a:off x="593640" y="911160"/>
          <a:ext cx="8155080" cy="31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911160"/>
                    <a:ext cx="8155080" cy="31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Заголовок 1"/>
          <p:cNvSpPr/>
          <p:nvPr/>
        </p:nvSpPr>
        <p:spPr>
          <a:xfrm>
            <a:off x="324000" y="836640"/>
            <a:ext cx="836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головье коров, тыс. г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334800" y="4459320"/>
          <a:ext cx="8809200" cy="239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" y="4459320"/>
                    <a:ext cx="880920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Box 11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ая численность КРС по породам молочного и мясного направления продуктивности по 2019 году в племенных организациях и в целом по области,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62800" cy="43164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Молочное животноводство Вологод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324000" y="957240"/>
          <a:ext cx="868968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57240"/>
                    <a:ext cx="868968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2" name="Прямая со стрелкой 4"/>
          <p:cNvCxnSpPr/>
          <p:nvPr/>
        </p:nvCxnSpPr>
        <p:spPr>
          <a:xfrm flipV="1">
            <a:off x="1258560" y="1915920"/>
            <a:ext cx="7057080" cy="505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6"/>
          <p:cNvSpPr/>
          <p:nvPr/>
        </p:nvSpPr>
        <p:spPr>
          <a:xfrm rot="21381600">
            <a:off x="1336680" y="221616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еличение производства молока к уровню 2005 года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324000" y="692280"/>
            <a:ext cx="836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изводство молока, тыс.то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324000" y="3989520"/>
          <a:ext cx="8496000" cy="286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989520"/>
                    <a:ext cx="849600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7" name="Прямая со стрелкой 9"/>
          <p:cNvCxnSpPr/>
          <p:nvPr/>
        </p:nvCxnSpPr>
        <p:spPr>
          <a:xfrm flipV="1">
            <a:off x="1331640" y="4797000"/>
            <a:ext cx="6985800" cy="936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TextBox 15"/>
          <p:cNvSpPr/>
          <p:nvPr/>
        </p:nvSpPr>
        <p:spPr>
          <a:xfrm rot="21114600">
            <a:off x="1184040" y="5310000"/>
            <a:ext cx="75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величение продуктивности по Вологодской области к 2005 году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8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539640" y="3573360"/>
            <a:ext cx="8363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дой молока в расчете на 1 корову в сельхозорганизациях,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12:59:21Z</dcterms:created>
  <dc:creator>Ольга  Константиновна Тюренкова</dc:creator>
  <dc:description/>
  <dc:language>en-US</dc:language>
  <cp:lastModifiedBy>dubova.ea</cp:lastModifiedBy>
  <cp:lastPrinted>2017-05-24T04:14:46Z</cp:lastPrinted>
  <dcterms:modified xsi:type="dcterms:W3CDTF">2020-02-28T08:01:50Z</dcterms:modified>
  <cp:revision>708</cp:revision>
  <dc:subject/>
  <dc:title>Презентация PowerPoint</dc:title>
</cp:coreProperties>
</file>