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dt" idx="112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 type="sldImg"/>
          </p:nvPr>
        </p:nvSpPr>
        <p:spPr>
          <a:xfrm>
            <a:off x="894960" y="746280"/>
            <a:ext cx="49705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 type="ftr" idx="113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6"/>
          <p:cNvSpPr>
            <a:spLocks noGrp="1"/>
          </p:cNvSpPr>
          <p:nvPr>
            <p:ph type="sldNum" idx="114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7619-AA90-4ED6-B40C-B28740AADA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CFF4-A303-4781-B20A-C5418B71F6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6FEF-920F-4926-B830-5D7FEEC9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C949-B627-446F-A059-B47BF495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059F9-3708-4DB0-839B-AA14E9A0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13C6D-090D-4BEF-8C0B-C4E7AA4F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31B75-B5B4-41E1-8731-C8F75EFA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C647B-F786-458B-AD3D-7940B28D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8DD96-B3F4-4317-9DE8-0D1F2ACA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A9FDC-7282-49DA-B50E-D5EC47A6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871EC-7307-44C3-AF19-4B9A027C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F98C5-6E01-40D5-B476-D3FEF156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C6954-0BBA-4578-BF11-12A1F3A6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1642E-CE3D-47B9-B7DF-26AC56D1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B753-B939-4B60-9D85-18546A54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F2335-47CF-4064-B979-50DA9FC7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03906-C97E-412B-97BF-89583331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D4713-DA84-4F57-8875-3F011F6F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1E7E5-FC1B-4217-B42B-21996D35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918C4-1C06-47F2-81E8-E9238E6F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028DC-6B51-4D16-B23C-C7B6AEDA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B751F-DC3A-4A07-AE01-BE2959A5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CD0B2-8986-4E7A-8FC7-F1F70425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168E0-FC3B-4433-9CA8-8325930F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5FB50-0E91-4527-98C3-0A598808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346B-092B-43C3-A6B8-3D06C409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53520-D3B0-4E8F-AF86-B0596448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922A1-37C5-4AF6-AA51-B5C882A3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C3AB6-32D1-48C4-8DEB-0478BC02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403CF-848D-43FF-8125-3A8BBD1D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8673B-5A04-473B-8205-3335B566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BEC68-1319-4171-81F5-52F18B57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6797C-F8C8-40E8-9D1F-94369B49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5EB9B-8375-485E-88FA-BDE7BCD8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FDED9-3834-42C6-95E1-7678BA0D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13C7B-AFBB-4F87-959D-BE9E7BDB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3EE6-B13A-4339-9A6A-55F49208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993F8-721A-4C11-83CF-B3B234FD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6F71C-4026-4D3E-AE7C-9C4E8BE4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27DDE-4859-402F-B370-977D5444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C7A2C-F9FC-41B6-82DB-E96A2230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AE592-7C45-4B17-BE14-60A59364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ABED5-13E4-4270-8EB9-38FC3666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21279-EF0C-4AC4-9C50-259DE41A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06FC0-818F-4C76-A0F5-A6FBB8F2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F70D7-83E4-4176-BC4A-319D6F37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90C05-3822-4B40-B2F5-6B13648E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EDA8-D574-46D5-887F-EFB1C7EB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E37FB-9B2F-4E74-9768-96E1CB49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57844-D55A-4AC2-9B01-70CD4156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3DEB8-9CB3-4ED4-940E-1286181A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6AE41-0344-4618-A83D-E8EFB6DC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D0D61-0C83-42A2-A2FA-74207369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2716DB-CA8C-420B-9C2C-334DE93C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4FE531-FF53-41D1-B144-6FF93034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F8A474-10E0-404D-8A74-07F7B28A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100DE5-5BE5-43A7-8B33-E9932392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7199A-7315-4A35-81B6-A80D9EDC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38B6-A0AD-476F-AC09-BA0A8862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4DCD9A-E2C7-4D47-9E52-BA210089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F26131-B44E-45ED-9F7B-09801C44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8E12BA-FC3E-447E-AC57-071FFE0E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C52219-9BF8-4D5B-B6ED-B869B687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60EB2E-C4B5-47B4-B67C-3F37ED8C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087598-1826-40C2-BAF7-06997E5F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F47629-5FA5-4877-B63F-6DA9C0EA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5AE5F9-5EBC-40FD-BA43-7B1FE7A4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80841A-E452-4EA8-B952-9B096DA4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29A40D-E1C1-4E23-AB72-DB9FAE04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C06E-123E-4FC4-9360-53389F1C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CEB2A2-A53D-4C23-A1C8-8FAC2673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03540-6A48-45E5-B34A-A86F7536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780EDB-D4DC-4FF4-A61E-44EFB41B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A899CA-7BC5-4D8C-A54D-B5B2D643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38D25B-94EB-43E7-B043-1557E7B8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FCE8F4-218B-4235-A49C-A33D10E3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C275CF-48E1-4A86-9010-D4C35CB7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C24BA7-5DAD-48E8-A4DB-926FD508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9C751D-C847-47EA-8A28-2A902ECD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80D7FF-BE6E-41B6-8D33-80C75104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124A-4725-42F1-ABC7-D9367193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F89336-C003-475F-8434-E7C24D4E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66DD9A-5CBF-4F4D-8CB2-501FB7DA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B5322D-2F97-4104-8233-584E9835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52655D-33B4-44A7-BAAC-6C0C3377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273A5A-5748-46EE-B254-103A403E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96CBB5-6ACA-44A7-BA05-DEC0572B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05E4C7-CC21-4963-9C65-2629221F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8910CF-521D-4707-AF79-7F07CCAE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BC85FC-2635-4807-AFEA-2C66AE28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2C1D50-9C03-473A-AB9E-1B71CD5B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F853-DAB3-42B6-B994-AF6A2B4B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01ACC4-E7DE-4596-A640-6A6CF70A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037607-F837-4730-8FF4-8B2CAB0F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3C9065-D9D3-451C-84FE-C701F661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3A71BD-FA64-4922-8238-26DAB531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B78C9A-7F33-4299-B7E7-18649746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01AD29-50EB-49C7-865C-5CBA3EBC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77ECA7-095C-44C2-AEF9-1310B848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47755E-CC75-4011-9ACB-9C95D3D7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0CE8DB-64EF-4248-A435-475EB4FE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2C3663-9FFF-45D4-BA40-D4E9284A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87F2-7123-42F3-AA91-2D7E2ABE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35B7D-1A5A-4447-87DE-4B7DD56A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AB71C8-C662-46EB-87AC-6C84BA7C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F8BF16-A81E-449C-856F-FEFD283D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77795C-135E-41C1-A97E-DD943FE5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E7D3D1-B797-432A-99EA-9D3061CE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ED22D3-5B37-4047-8E4A-497289E6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E6BCA6-ED5D-4010-ADC7-DD98D14B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070D1C-FC08-4BC2-ADAA-A3A36653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D628CF-7BDD-4A93-B62F-7F6AEC26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675BFE-828E-41BE-8181-5737A602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BC5-5AC1-4E15-BCCA-2D979E4C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8F74-278F-4250-978B-AF70BC86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C035B3-29D1-4995-90F6-93E55B19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F80716-1541-40E9-A012-A8F89AB9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C4AF9E-B8C7-421D-B786-B75664EA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D1135B-7C6D-4F19-ABEF-700C5F03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62469D-3DF5-4720-8E9F-6675014E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8EC3E4-2869-4FA0-BAE2-23936D6F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41D214-D455-494E-8ACE-E34AF3C5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B2656E-E0B3-46F0-B640-48CA6CB7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CB0575-BCAE-4958-8B84-EE0B691A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B5DFC5-E0BA-425A-B0AB-9F1F9F5D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D403-0E57-4A3D-BD7C-42266DA9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979017-D347-42A9-9016-D9599685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03B471-2153-4407-9CC2-7CE0A906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148C14-5541-4430-9C8A-C95A430C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0053DA-F046-41FF-8D94-ED16AC77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D69FB3-E4CC-4D4D-9BC4-72BAB0E2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1182DD-21CB-40FE-8E56-63380CE0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B03B22-8AE7-4A97-877A-5778687C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827CF2-1115-42DA-8629-372504E2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C029D8-7F28-4685-B78D-852453AB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71215E-5391-49D9-B584-F9A35CE1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B557-7FB2-4CC3-8CEA-EF6BADDB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B67358-B77F-4B09-9AB6-A2C756A7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36F0B5-8AED-44BE-B87D-07E13BC4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4AC36C-70CE-4F14-894B-2CAAC852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43B016-374C-482D-A73B-0865FECC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BA75FE-E14C-44A7-95A8-8C1788A1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D24175-F611-43B7-B107-E49C5EB1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1AC906-8279-4D67-A1FD-13A07AFE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E2197E-C61E-4495-8826-2E312B9F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AEACF6-824B-4CFD-BF4F-AC574F27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80B90A-1722-4994-B166-85C61752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C5F3-EC81-4633-A6D8-7667F3EB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CC57B4-DFB8-4FAD-979C-9B82693C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924CF6-9E3A-447E-95F5-6A8BE28C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B7DF70-12F5-49F9-B44B-EBA034EE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078BCB-4916-41D4-B23D-199DB1AE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0B1B5A-29EF-4889-86F1-B4C9512E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2447F6-4E66-4589-96B1-568D09B3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8A710A-6B55-4AB0-9E5F-09A38799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48372C-8361-48BF-891B-87A2000E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EBFA01-658F-4AAE-904F-252C8CFC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92CE91-868D-4DCF-8497-CF624C52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0D0C-3C89-4704-A079-CEFB6F0F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D40B95-3311-4BC8-BB9C-408D93F6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6ADBFC-E846-41FB-A366-5124CFEC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070F02-608A-4F93-BC11-8FB9F571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24EBBE-5254-4C35-BDA8-A9924684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167F95-77E2-47F9-8804-2E33BC8C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F74239-D541-47A3-A1C6-3A9A77FB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1193C4-933F-43FA-A526-3653D280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CC9F9B-EF56-4B29-A4F3-7C1048D4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00FFF5-D68C-490A-A669-7D833D44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55CC49-2FCA-4BAB-95DA-6F9D5FA3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9FBBB-E05E-4901-BC23-D24923A0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E2F25B-363F-4E82-804D-99C00852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9429BA-45A1-4E56-B25A-C73907F1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E96646-8DBA-4E0B-AA30-A388515C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1D4174-9F4C-47D9-AC05-0E7B426C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2CFFAA-345F-4BFA-B38C-06B582F9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5D861F-5A59-407C-B83C-C61FA99C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2A69D8-DB01-44FB-9950-35422852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3BCA93-DAC3-4947-A70C-0DA2D1ED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ADBA8B-C990-45D9-A809-4CC2D7A5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573572-EEA6-4255-A387-C787235A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9F62F-3299-4D2E-A6B3-57DA5833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0435DC-32BD-4452-B5D8-CAF0BF88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63A9BE-AE12-4006-87C6-160C65B5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F774F7-7551-4B11-A386-D86E8C07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6BE1CC-0601-43A8-ABA4-74C89473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2468BC-9800-4F08-BB9A-3E30F424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7565A9-5E52-4B6A-9C6D-707AA1FC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8356F1-9FDE-4FA8-9A81-E86BB2A6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331683-8B04-48E4-AA7E-5DCB1BC3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07D91E-F8F9-4037-BF97-3BFA5250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EAD123-7049-4BFB-87B0-3C403E93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6991A-9F14-48C1-9EEF-ACBF7344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DE2864-F3DE-4503-A35F-55BDA37A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80D210-0FA4-412C-A1E2-D8C0579F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D22881-EFED-4C72-BE27-DA0D77A7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A5EE82-59B0-4375-B35C-961739D4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A4CCB4-8779-47B0-8D83-690953D6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84BBBF-180C-4B73-82A2-E3B3336F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D3A88B-14AF-4DD8-8E42-1A8E14F9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2637AE-1BAC-4303-813E-881F884D0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0D6E11-EE62-474B-84A4-23856D50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269489-344B-4374-8A61-2FBF2803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F342C-E7D1-419C-AAF4-E6379CE1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B7F8B9-B888-4415-BAF1-C23B6851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1FCDD1-7B76-4A6A-ABBF-C48E5F58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8AB7EA-D8ED-4C35-B44C-57F1EA05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C714C1-D957-41E5-B053-F9CE081B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DC2DEE-6FE1-48A8-B297-C45A8334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F41CD1-4DEF-45BC-96BB-DD86DE63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7531A5-6F92-49DF-8D77-16862966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8E0BB3-C5D1-432D-9EF0-52753C27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B02A49-9CDC-42BF-BDC5-C409833B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DCADB5-5E07-426C-A4C9-52421FB9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07DDE-113F-45E7-B7A4-8B4F0EF1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F687E5-6F1F-4475-A761-AA7DB211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BB9EE9-1CE1-46C4-A116-DD0589E4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536C13-C14F-4905-A93B-2EE07D2B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27EC0C-D1C2-418A-BE98-CDBE909D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41C796-535E-4423-85E7-8D073239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50DB31-0EB6-465E-A999-38CEDA1E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9A6217-728F-4DCD-B386-063904DD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C88CF0-283E-4B95-B1E5-0E25AA27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DAC88A-0A76-42AD-8DE0-A94BE233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A142B9-EA30-422F-8B95-FC54B020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8FBE-5935-4CC0-84EA-B6E01282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59C97-1627-45D1-80A7-5BF2313F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ECDF45-FFCD-4767-A777-D8592CD4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B200ED-B559-4B99-A3B6-2677FB5D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3AED51-985F-4B43-9E0A-3975A122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7E0592-7CB0-4F45-9266-BBF0C3F1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891578-B90E-49EC-83BE-9B511F88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90FFA1-2B59-4C72-832F-5BF33041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A4DC8A-1E9F-4E14-B276-9462067C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E80E18-EF72-41FA-AF1C-EE408C17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E02A66-F65D-4623-A478-559F3D32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7877F2-4E19-4B0B-BBE0-F3A2BABF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DAA7F-0CA2-4172-ADBA-6D2035BE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F15F13-7358-4278-9DF5-F0691046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7D459F-B49F-4F4D-8ABC-70ACB8AB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8A687E-5F21-4B6F-BEAB-360592AA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98652E-3844-4ADC-9799-9EA93D66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A11CE8-832B-4DB4-AE2F-2FC5C229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32CD2E-419C-4380-AF24-529A95B8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5300AC-950E-48A5-AD9A-7134B275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AA0017-6533-473D-A443-E982D6BA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4D269A-7F90-4E02-8230-9AABBCE7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9B108F-A00D-4107-85EC-90FF9F3E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CE85A-CD03-4AEC-A35D-E2BB1F5F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B6C5BB-D79E-43C5-8D80-14B3FB5C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3A87DD-AB5B-43ED-8F22-88A77FEC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36FD67-C565-409A-BBF6-D0D5C01A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0F9FC7-1A01-404C-AD23-B836F544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24A54A-B630-4D40-AE9A-61788E45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904172-B32A-4F10-BA24-D13D0382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0F6073-DA66-4ABC-A2B4-57178795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596874-F82C-4E0B-AEC1-8008E29C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75D39C-2CEA-4562-918F-8DE65640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6E0FC4-A8BC-4447-8582-D97743E7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C7FB1-5C07-4087-B3C6-82A2B8B2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BC69D8-7706-4B71-93D3-70A9A114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249744-061B-4FA9-9E3E-EB9EFC75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025DE8-0523-4950-BB98-02C61277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B98A81-3FCD-451E-AA5B-E6904D89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E3F7B6-1EF1-45B8-B5FC-A34B5921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6998A6-C812-431D-8CBF-0E01462F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41BF49-14D7-4A41-887C-9A4A8F2B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5F2476-D55C-47DF-AC1B-DC1333F4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8D0659-21E3-41DA-9803-D5E37722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648619-FCDA-4CD2-B5EE-D7C528CC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9709F-DD67-404C-9553-4F8C6419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DF245A-2786-4CAD-B7D8-590F407F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97FBC9-C4BF-40E7-AE15-0898B064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5CDD388-FFF9-4D03-882D-24E46435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B842D5-BB5F-49E4-9E3B-910B18A5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7FA14C-2845-4FF0-84C7-1D105B4A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6C6EE9-3BF5-4F4C-BC5B-42512395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6FE138-A6E2-4438-94EC-25779065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061FC2-3BEC-41BD-9CCF-EF6D7B0D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5AD975A-BDAD-4176-8DA0-5E93D4C7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178AFF-E830-416E-9FDE-4A54D690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E4A4E-FABB-4776-AB4B-4E904538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76680F-BB0B-4462-B002-E3B1F111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7A7D25-68D3-4CEB-B3E2-5B1FE09F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E72FC7-DF81-490D-B25D-7F29D406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FC28B5-2FFB-400B-AEE0-341BFF7A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42AEB3-CC3E-4C9E-AF51-A85AEEC9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BBB023D-C452-4878-85DF-3FFD5C98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9F9523-4446-4D3A-BFD6-1B69AB5E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82527A-F486-42C6-AB87-AE6A6B3A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577C2A-9734-49CF-9DB0-90DD1095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7BC952-31F2-4CE1-AE8F-5312B7AE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57D4-6993-41BB-80AF-81D301E5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5E027D-7E8F-4E11-B99C-3551EA97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7F837F-4AE4-4B30-B4D4-C43F43A9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FBCF43-3496-4BCE-AF71-416CE683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685A49-4CD1-44C6-9BCE-2AF76A1B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BC7394-3AD8-40D1-8378-2E74AC75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1BA65E-97CD-4680-92D6-6CC031CB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590071-8952-458D-8308-71566FCB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49BED65-ABCC-478C-9316-5A97EB46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6CDA478-CD99-47CF-B931-59E4E645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424DEF-8730-40ED-A5F3-B6B399EF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7AFC6-8837-4146-8C26-36A73C7D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01F027-3D79-496F-8CBA-09DF57B5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9A6DEC-EE04-44D4-8A49-201237BA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37C3FC-F364-44A9-B751-94D8368D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6FA050A-E40E-4D53-8012-E8C48245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682CCAB-9D20-4B64-A7BE-F2B69617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C68734F-970C-4C19-B8C4-3CF9F735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9FAD8C-039F-4C4C-8853-981D08CE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23CE1F8-1616-4623-983B-26DE3EEE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24F8CE-78D3-4A01-8053-3419F54E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9CB67F-FB7C-49D8-94DF-EC87105A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F7BE4-EAEC-4D39-857F-3CAD85F4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C271AA1-B4FA-4150-8103-F36B2571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7302CF3-4744-4629-BF7F-6F0636C7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ED2A520-037D-4A63-9300-D0EC344E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D2027E9-3361-4C31-A6EC-AD46CE85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10BE8D6-F61D-4B38-977A-01C60B3F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A0D043-1D33-4058-B6F4-8D6DB0D2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C95B4B-7C43-4DF9-9D03-BA603717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879682-C0D7-4C4A-A8AE-60289004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2A6F366-1E18-4FA7-A610-7790E2C4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E6ED1C2-2EB6-4243-B4BF-FB9D6A87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9EA57-99CA-4DF5-8AA0-9382D21F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3233182-3846-4393-BF82-42819379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C2BAE8-72E4-4194-B6A0-4590947A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20247E6-6BC8-4F96-8010-1AC188A4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2E8AB4E-E64F-4D9A-9654-849FB8C9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550345F-9CA1-44BB-B104-B486C488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0BEFDEE-B6D8-4858-A356-E17A645C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C1E82F3-1D6C-43F1-A956-A8E372B4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AA73ACA-24A3-4FBC-BD38-312F10DF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7047C56-DF94-46AB-A5B1-DA0534E3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8C0245C-C7EB-4F10-A5AE-52AE31FB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C03D-4CB8-4521-99EC-6E9DAD3E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A3384-34FF-448A-A5F2-187CA9D1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9250731-4B06-4CA9-BAC7-EF75B492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B844711-86C6-4AFD-BECA-1A827DBB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779768F-5835-4AB8-90A2-E946A94D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FDE9378-0E82-4662-A893-4FC67040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3EE0FF-3F6E-4D9B-949D-2C3DC559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15490CF-4FBE-4E18-96EC-6EACA7CA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8F7E97-81D7-4DFC-BA96-A5199127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5038B1-601B-4252-97BD-7FF09E0F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283E0A0-943E-47FB-B6F9-1DA3862B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5490519-B073-4A82-BF08-12F61FD7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520E3-6F68-4873-A3D9-F5FDCD33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6643449-39E7-439C-AD3F-C9364310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AEC3445-8481-4E9F-9299-196EECE0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CF21A02-A785-42CB-BA0D-5A405E7B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E8BDB64-5F3D-4A10-93FA-E12242C5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09E52D-BB31-46DC-94C1-7F7006E9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E65ABAB-4FB8-4565-B5BC-7B980C13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38B2FB8-9227-41C9-9DF3-7FAC6EE0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75652C5-8EC5-41A1-A85B-6658E66C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7A9E6E-DBE5-4CB1-8552-D5FBE042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C699A3-C940-4F7A-8F07-FF6ED238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DD67B-0CF3-4EB9-9EEA-0C373CAA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2C6543D-3386-4C90-A282-C773EC5C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E5AF147-5707-4BF9-BBFC-503A60E5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66301D-6DB8-4520-9070-AE29AE0E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9D37EE-C7DF-4305-971F-AF01043A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AA210B0-3E5F-4BDB-9432-6E6E83E8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A1FA43-11E8-4FF9-9FC8-7A0DDA3D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4CD309E-1109-4CF4-BB02-3DC574E2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B689A05-F4BB-4077-AE1D-3BAEC06D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A00B6AC-9F58-4E42-AAC4-E5D46CFD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4198CE2-5559-4C86-8D15-3784ED05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84BE0-247D-423D-B8A1-EBDA8257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C8680D-B8D8-40C4-B536-BB141B39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95ABAFF-01EB-4294-9E54-B5F901DA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15FFF5-CF1F-4FD2-94E5-3C0CEDD2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3055140-4B80-4DF6-A39E-D9BFAF4F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D300047-97ED-433C-AEE2-B78C4942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76C50A6-6D50-4FC6-9C8A-ADB6C758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4E3B5EA-4408-4BB0-AC4F-FDB357EC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A3BBB71-414C-4241-841E-8DADB7F4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260367F-8D0E-4E7B-BF14-66E14857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E1AEBE9-B331-4861-BF27-6C8DF081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0F54A-9F8A-4BC5-9BEC-2815A1C1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AF91068-9AD0-4FE0-BD1A-A8FD82D9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A6DB194-1A03-4797-A5A5-1E7C4DDE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62E5662-A430-469D-9471-8D64F143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FC46AB9-A07F-4397-A084-1C96138C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761ADEC-A3B4-4F58-8B8E-F573E587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B6521-0C75-4875-A683-3CB6EEB2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8DCA9-A727-4F4F-AC1D-023E4069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51678-FA33-4713-B684-E93AC5AE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26E00-73A8-444C-A814-5E2FB813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F5C49-778D-4333-882C-057A817B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0CA4-93C8-4038-AE30-6D684191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6010F-CEE3-476B-85E7-A168BBCF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229C4-E0DE-49AD-93C0-F7CA0D14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3D1E1-0D1E-4F46-90EF-0330FB74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ACC34-6BFD-49BB-BD0A-9C4B6A68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2085D-1E3B-4E3D-B514-C4F7B6AD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32B1A-0CC9-45FF-988D-1C34F8F4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C4478-C24B-4F52-BFE3-445C2002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7FEFF-657E-4DDB-AE9F-314EBDF2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AA613-3F3E-4E5F-A894-797F00D2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8AACF-DF8B-44D1-A447-013CCBD8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D54D-7166-43AD-9FA2-C3A50508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45394-7096-4B06-B02F-0AF565CD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8B8F2-BB29-4156-BBE8-091F8C32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FC4C4-88C1-41B9-B182-CA3812F1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7A871-C126-4301-AB9A-885F6CAC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73534-4FAC-47E6-8229-CA85C9BD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BB88C-1664-4CF0-9AB0-D4F5DF8B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4C698-0AB3-410D-85E5-A788F730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CE402-3242-44ED-96D5-121C4029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91784-E03B-4E21-8723-0FAF3E33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9E795-7476-44BD-AF44-A5CFFA5D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8A1-DA98-492C-831E-63C85B98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2EFDC-F8F3-4105-9821-9D3DCC1E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CB8FA-DA89-456C-9D5C-FE31D26D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CFFC9-1367-4578-8F88-FB4ADF19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411B4-CFFA-4609-8519-1CF2725A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B2412-8D40-470E-9001-51D60441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4F5CE-A2A7-47BE-A55E-5B3F4F0B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74995-BC85-481B-988D-F2DA2F83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A8657-CA61-49B9-8BC8-EBB2E849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12A54-7DED-4B7B-AF4E-9DAA2A4E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5079D-1EC1-46BD-9EFA-EB4153DB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D96A-111C-471C-99A0-29846D32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55886-6B09-4368-8738-538C0043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C4479-ADA0-4747-9517-7D3384D1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46269-CE49-44F8-9426-E4684279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CCA89-F82D-42D1-AC62-24B720D2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B9E2D-78A4-47B5-807E-E443F7CC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55C0C-9960-436C-B58B-76D6A711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CC5F2-C29F-44F2-8A60-174CA0C6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702DD-611F-4077-A2E1-56B558F4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8C9E7-82DB-488A-BB7C-75048D6D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6C8B4-1A95-4428-9AB0-C51EB617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03C9-4000-459B-BE3A-7E8D9C7D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5FC9A-83BD-4AD2-9481-70648B30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7CEF0-B97D-463D-964A-B3B713E8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0D2D2-32FE-4A7E-A586-F7C27F37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B50C8-DEF2-4F3F-9E44-1384F591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8CE46-B2D9-406A-A230-CE8DA103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DFB64-03BE-4DE4-A4BF-78ADDAD0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FD59A-E815-45E8-9DB0-AE75330F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DBA4E-98DE-46D5-B9CE-7A3D57EE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441D2-2682-44F7-A032-847113D6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F3B62-2369-4F33-878B-91791885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C86D-9E45-4FB6-99F2-5C6FF22E404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2093-F211-4965-9F97-1DB7244C46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88EF-C55B-4E84-9AD7-D865D9C8D7F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CAD3-6A14-4486-9FCB-CC597D3C08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260C-6940-4A0F-8083-76B3E91AE49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5D90-CA4C-47E6-80AF-E39984F7FF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98B3-7FD0-4E04-9387-26CE72A0DD5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D6A6-5AD9-440C-926F-217C1F9246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654A-A39E-4FF9-BF09-5AC476AE710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7853-88AD-469E-BCFD-8B27A0694C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8742-BB2F-432F-84B5-BF94C212657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654A-5D14-46F1-B901-6B4AB16991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E124-F61B-49D4-80ED-C46E00D6C7E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0A07-8355-40F9-88AC-9A09FE7974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ED67-2BAB-495D-AFA4-3FCDA75283B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2E78-D33F-4EE6-84CA-7947382A1E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F099-3B20-48C2-8CE6-B20DDB6EABF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9555-4097-44A0-8D0D-A88E3D6A9D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351E-C256-4EA8-B261-C683A74CE09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3276-D514-4F16-AC9B-7E54BE0D6C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03E3-1E40-4C05-BA7C-F97826830A3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A3CC-1EF6-4BF2-999F-04A57FA5F8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04B50-85C9-42BE-B222-3AA58E0A93E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1FDD9-2FAF-4A3E-9336-B42F4A2AB6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2635-6D9F-4258-8E23-65140E42B77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9218-29D3-481E-9A53-B5A06942E5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3619-2ACB-4802-AAFE-E217121E887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C60F-AA70-41AA-8B50-6CC9E3B499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A089-E189-4064-9F32-06972D85646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F413-3A53-40A8-B00D-8507EF144D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D513-D4B8-4C7D-9D18-A0139788FB0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ADBA-56BC-4476-A9E4-1A0E8DD640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D858-4624-4B1E-857B-A02502DACEA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7FC8-A1AC-4C26-BD84-4851072372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593F-36A2-4228-9BAF-B547FB9A8DF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3A54-228E-4428-A926-4EE3A600A4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FD0B-462A-4A21-A547-8B718CE1403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CF12-E714-4635-8B4F-0341FEF387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7133-5808-4D6F-81D6-496F0E99E13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D460-5F19-4B43-8AAD-91BC0B53D7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517B-0C86-4E33-9E0E-9CAA7002C45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9CEB-7BDF-40D5-B7F0-913E9082C5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04C9-3F4F-4A8C-A53C-3D0E106B79D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CC0F-C3D8-47F7-A184-0320EF7422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8E9C73-DECA-45CB-82F4-C4C9D5A0098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F13199-E9DE-434C-9AA9-FF071930F8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B800-B301-430F-86DB-30DCCB062CF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3D56-0945-4B3F-B3DC-11783E6022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D8D1-9251-4DA0-8FF2-CC9B0FD0DF0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C78E-DBDC-42E4-AFE6-D5200E19A5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3761-5238-4DC0-9722-21D288A702B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739D-B08B-4DA1-BE31-A3ACA80F43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3781-B05B-4AE0-83F9-A015A7E21B8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3862-3802-419C-8390-C3E57EC31A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6281-1046-46CA-B037-5FF1020ABED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F1A4-E1C3-4C3A-B16F-BF0ADE60B9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D48B-2235-4DC8-9EB3-3AC62155D98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7E8A-64A6-48E7-BA45-3A1FC8937A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5C69-00C9-46BB-8950-EFF851908AE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E89A-4E10-4F5C-9F65-D35A8EF774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85A7-B884-4731-BC29-BBE0AC8F10B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07A8-68D2-45A0-816E-32BA445D53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BCAEE-35FB-45FF-AB64-1D8734191F5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4D8FC-6460-4F21-BF28-193867EA37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5DBC-609B-4030-BE88-64963B70AE0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EA09-7E1E-405C-80F8-7430F537A5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C9CD-1DF4-418B-B62A-3C5F8355AEC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0B23-87EB-4EE9-8E7C-1D82569275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69A3-D88E-4BA1-B4E4-CC049B8B384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1F2A-00B1-4C4E-B1E3-6C25657193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7FB2-DD5B-4058-9FD4-0D46E9D4C96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E8CF-783D-45FE-88DE-E6A4F17A86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2EB0-2875-4F06-952E-948F930E14D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CCB2-81DA-451F-B7D9-E21F72C8BE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258920" y="983880"/>
            <a:ext cx="68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государственное бюджетное учреждение наук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логодский научный центр Российской академии наук»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subTitle"/>
          </p:nvPr>
        </p:nvSpPr>
        <p:spPr>
          <a:xfrm>
            <a:off x="755280" y="1915920"/>
            <a:ext cx="8072280" cy="26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ферментативно-пробиотических добавок на микрофауну рубца и молочную продуктивность ко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Прямоугольник 3"/>
          <p:cNvSpPr/>
          <p:nvPr/>
        </p:nvSpPr>
        <p:spPr>
          <a:xfrm>
            <a:off x="3780000" y="3720960"/>
            <a:ext cx="5190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и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цева Н.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 инженер - исследователь ФГБУН ВолНЦ РА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нт, Вологодская ГМ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акова Т. С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с-х наук, доцен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ОУ ВО Вологодская ГМ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ирнова Ю.М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учный сотру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Н ВолНЦ Р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TextBox 4"/>
          <p:cNvSpPr/>
          <p:nvPr/>
        </p:nvSpPr>
        <p:spPr>
          <a:xfrm>
            <a:off x="2916360" y="6021360"/>
            <a:ext cx="32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гда-Моло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Номер слайда 5"/>
          <p:cNvSpPr/>
          <p:nvPr/>
        </p:nvSpPr>
        <p:spPr>
          <a:xfrm>
            <a:off x="5894280" y="6161040"/>
            <a:ext cx="321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Прямоугольник 2"/>
          <p:cNvSpPr/>
          <p:nvPr/>
        </p:nvSpPr>
        <p:spPr>
          <a:xfrm>
            <a:off x="2891520" y="1916280"/>
            <a:ext cx="35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Прямоугольник 3"/>
          <p:cNvSpPr/>
          <p:nvPr/>
        </p:nvSpPr>
        <p:spPr>
          <a:xfrm>
            <a:off x="1476360" y="4070520"/>
            <a:ext cx="61117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d4779"/>
                </a:solidFill>
                <a:latin typeface="Times New Roman"/>
                <a:ea typeface="Times New Roman"/>
              </a:rPr>
              <a:t>Федеральное государственное бюджетное учреждение нау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d4779"/>
                </a:solidFill>
                <a:latin typeface="Times New Roman"/>
                <a:ea typeface="Times New Roman"/>
              </a:rPr>
              <a:t>«Вологодский научный центр Российской академии наук»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d4779"/>
                </a:solidFill>
                <a:latin typeface="Times New Roman"/>
                <a:ea typeface="Times New Roman"/>
              </a:rPr>
              <a:t>(ФГБУН ВолНЦ РА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d4779"/>
                </a:solidFill>
                <a:latin typeface="Times New Roman"/>
                <a:ea typeface="Times New Roman"/>
              </a:rPr>
              <a:t>Россия, 160014, г. Вологда, ул. Горького, д. 56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d4779"/>
                </a:solidFill>
                <a:latin typeface="Times New Roman"/>
                <a:ea typeface="Times New Roman"/>
              </a:rPr>
              <a:t>Телефон: (8172) 59-78-0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d4779"/>
                </a:solidFill>
                <a:latin typeface="Times New Roman"/>
                <a:ea typeface="Times New Roman"/>
              </a:rPr>
              <a:t>www.vscc.ac.r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d4779"/>
                </a:solidFill>
                <a:latin typeface="Times New Roman"/>
                <a:ea typeface="Times New Roman"/>
              </a:rPr>
              <a:t>E-mail: common@vscc.ac.r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8" name="Picture 2" descr="Y:\Мои рисунки\Логотипы\Лого ВолНЦ РАН\Логотип ВолНЦ РАН 5.png"/>
          <p:cNvPicPr/>
          <p:nvPr/>
        </p:nvPicPr>
        <p:blipFill>
          <a:blip r:embed="rId1"/>
          <a:stretch/>
        </p:blipFill>
        <p:spPr>
          <a:xfrm>
            <a:off x="3881520" y="2687760"/>
            <a:ext cx="1380960" cy="12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019160" y="0"/>
            <a:ext cx="7346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Актуальность те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0" name="Рисунок 8" descr=""/>
          <p:cNvPicPr/>
          <p:nvPr/>
        </p:nvPicPr>
        <p:blipFill>
          <a:blip r:embed="rId1"/>
          <a:stretch/>
        </p:blipFill>
        <p:spPr>
          <a:xfrm>
            <a:off x="1273320" y="1125360"/>
            <a:ext cx="2662200" cy="3956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31" name="TextBox 2"/>
          <p:cNvSpPr/>
          <p:nvPr/>
        </p:nvSpPr>
        <p:spPr>
          <a:xfrm>
            <a:off x="801720" y="5249880"/>
            <a:ext cx="360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1 – Препарат ферментативно-пробиотический «Руми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Номер слайда 3"/>
          <p:cNvSpPr/>
          <p:nvPr/>
        </p:nvSpPr>
        <p:spPr>
          <a:xfrm>
            <a:off x="6804000" y="61657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0473-D209-40BF-A094-B57E03E602A9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3" name="Рисунок 5" descr=""/>
          <p:cNvPicPr/>
          <p:nvPr/>
        </p:nvPicPr>
        <p:blipFill>
          <a:blip r:embed="rId2"/>
          <a:stretch/>
        </p:blipFill>
        <p:spPr>
          <a:xfrm>
            <a:off x="5110200" y="1125360"/>
            <a:ext cx="2968560" cy="3956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34" name="TextBox 6"/>
          <p:cNvSpPr/>
          <p:nvPr/>
        </p:nvSpPr>
        <p:spPr>
          <a:xfrm>
            <a:off x="5079960" y="5207040"/>
            <a:ext cx="41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2 – Кормление подопытных ко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 txBox="1"/>
          <p:nvPr/>
        </p:nvSpPr>
        <p:spPr>
          <a:xfrm>
            <a:off x="107640" y="2373120"/>
            <a:ext cx="5807160" cy="36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динамику изменения качественного и количественного состава инфузорной фауны  рубца лактирующих коров, в зависимости от применения пробиотических добавок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влияние препарата ферментативно-пробиотического действия на уровень молочной продуктивности  дойных кор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анализ взаимосвязи количества инфузорной фауны и молочной продуктивности лактирующих коров в период раздо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Номер слайда 1"/>
          <p:cNvSpPr/>
          <p:nvPr/>
        </p:nvSpPr>
        <p:spPr>
          <a:xfrm>
            <a:off x="7010280" y="60930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E714-F22F-48CD-82D3-DA21FC48DFBB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TextBox 5"/>
          <p:cNvSpPr/>
          <p:nvPr/>
        </p:nvSpPr>
        <p:spPr>
          <a:xfrm>
            <a:off x="5950080" y="5492880"/>
            <a:ext cx="301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3 – Инфузории подопытных живот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Box 1"/>
          <p:cNvSpPr/>
          <p:nvPr/>
        </p:nvSpPr>
        <p:spPr>
          <a:xfrm>
            <a:off x="250920" y="1197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взаимосвязь между количеством эндобионтных инфузорий рубца и продуктивными показателями коров при использовании кормовых добавок «Целлобактерин+» и «Румит» в  кормлении высокопродуктивных молочных коров в условиях Волог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Рисунок 3" descr=""/>
          <p:cNvPicPr/>
          <p:nvPr/>
        </p:nvPicPr>
        <p:blipFill>
          <a:blip r:embed="rId1"/>
          <a:stretch/>
        </p:blipFill>
        <p:spPr>
          <a:xfrm>
            <a:off x="6180120" y="2637000"/>
            <a:ext cx="2784600" cy="2784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6532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Материал и методика исслед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250560" y="1052640"/>
            <a:ext cx="862812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-хозяйственный опыт по изучению эффективности использования кормовых добавок  был проведен в осенне-зимний период на базе СХПК колхоз «Передовой» Вологодского рай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Номер слайда 3"/>
          <p:cNvSpPr/>
          <p:nvPr/>
        </p:nvSpPr>
        <p:spPr>
          <a:xfrm>
            <a:off x="6732720" y="61657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BA42-5844-4039-B83C-B69EB5CD879A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3" name="Рисунок 4" descr=""/>
          <p:cNvPicPr/>
          <p:nvPr/>
        </p:nvPicPr>
        <p:blipFill>
          <a:blip r:embed="rId1"/>
          <a:stretch/>
        </p:blipFill>
        <p:spPr>
          <a:xfrm>
            <a:off x="1784520" y="2600280"/>
            <a:ext cx="5327640" cy="3554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44" name="TextBox 1"/>
          <p:cNvSpPr/>
          <p:nvPr/>
        </p:nvSpPr>
        <p:spPr>
          <a:xfrm>
            <a:off x="2430360" y="62024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4 – Молочный комплек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187280" y="7920"/>
            <a:ext cx="7848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Таблица 1 - Схема исследований по изучению эффективности использования кормовых добавок в питании животных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Номер слайда 2"/>
          <p:cNvSpPr/>
          <p:nvPr/>
        </p:nvSpPr>
        <p:spPr>
          <a:xfrm>
            <a:off x="6804000" y="61657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6CD8-F370-4DF6-B529-8EA2AB0240A3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7" name=""/>
          <p:cNvGraphicFramePr/>
          <p:nvPr/>
        </p:nvGraphicFramePr>
        <p:xfrm>
          <a:off x="768240" y="1413000"/>
          <a:ext cx="7921800" cy="4055760"/>
        </p:xfrm>
        <a:graphic>
          <a:graphicData uri="http://schemas.openxmlformats.org/drawingml/2006/table">
            <a:tbl>
              <a:tblPr/>
              <a:tblGrid>
                <a:gridCol w="2754360"/>
                <a:gridCol w="1895400"/>
                <a:gridCol w="3272040"/>
              </a:tblGrid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животных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го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корм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ая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рацион – 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006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ная группа №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рацион – ОР +  «Румит» (50г/гол/су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ная группа №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рацион – ОР + «Целлобактерин+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0г/гол/су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48" name="TextBox 4"/>
          <p:cNvSpPr/>
          <p:nvPr/>
        </p:nvSpPr>
        <p:spPr>
          <a:xfrm>
            <a:off x="755640" y="5602320"/>
            <a:ext cx="62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скармливания добавок – 90 д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9" name="Объект 4" descr=""/>
          <p:cNvPicPr/>
          <p:nvPr/>
        </p:nvPicPr>
        <p:blipFill>
          <a:blip r:embed="rId1"/>
          <a:srcRect l="0" t="15653" r="21045" b="1137"/>
          <a:stretch/>
        </p:blipFill>
        <p:spPr>
          <a:xfrm>
            <a:off x="179280" y="1268280"/>
            <a:ext cx="4764240" cy="3767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50" name="Номер слайда 3"/>
          <p:cNvSpPr/>
          <p:nvPr/>
        </p:nvSpPr>
        <p:spPr>
          <a:xfrm>
            <a:off x="680400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69F3-797E-420E-B6A8-B845E957BAFA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TextBox 5"/>
          <p:cNvSpPr/>
          <p:nvPr/>
        </p:nvSpPr>
        <p:spPr>
          <a:xfrm>
            <a:off x="324000" y="515772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5 – Отбор рубцовой жидк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2" name="Рисунок 1" descr=""/>
          <p:cNvPicPr/>
          <p:nvPr/>
        </p:nvPicPr>
        <p:blipFill>
          <a:blip r:embed="rId2"/>
          <a:srcRect l="17622" t="0" r="15239" b="0"/>
          <a:stretch/>
        </p:blipFill>
        <p:spPr>
          <a:xfrm>
            <a:off x="5218200" y="1268280"/>
            <a:ext cx="3805200" cy="3778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067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Таблица 2 - Население инфузорий рубца коров в 1 мл рубцовой жидкости в условиях СХПК Колхоз «Передовой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4" name=""/>
          <p:cNvGraphicFramePr/>
          <p:nvPr/>
        </p:nvGraphicFramePr>
        <p:xfrm>
          <a:off x="250920" y="836640"/>
          <a:ext cx="8497800" cy="5256360"/>
        </p:xfrm>
        <a:graphic>
          <a:graphicData uri="http://schemas.openxmlformats.org/drawingml/2006/table">
            <a:tbl>
              <a:tblPr/>
              <a:tblGrid>
                <a:gridCol w="936360"/>
                <a:gridCol w="928800"/>
                <a:gridCol w="1592280"/>
                <a:gridCol w="901800"/>
                <a:gridCol w="954000"/>
                <a:gridCol w="1062000"/>
                <a:gridCol w="1060560"/>
                <a:gridCol w="1062000"/>
              </a:tblGrid>
              <a:tr h="392040">
                <a:tc gridSpan="2" rowSpan="3"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 инфуз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, тыс. ос./м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я опы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я опы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я опы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я опы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20480">
                <a:tc rowSpan="2"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odin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начло опы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пы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,7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,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,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20480">
                <a:tc rowSpan="2"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plodin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начло опы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пы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20840">
                <a:tc rowSpan="2"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din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начло опы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пы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20840">
                <a:tc rowSpan="2"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sytric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начло опы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пы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20840">
                <a:tc rowSpan="2"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otric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начло опы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пы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5" name="Номер слайда 3"/>
          <p:cNvSpPr/>
          <p:nvPr/>
        </p:nvSpPr>
        <p:spPr>
          <a:xfrm>
            <a:off x="6996240" y="622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575A-936F-4C6D-85BC-34B0E278F923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Прямоугольник 8"/>
          <p:cNvSpPr/>
          <p:nvPr/>
        </p:nvSpPr>
        <p:spPr>
          <a:xfrm>
            <a:off x="1187280" y="607068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6720"/>
                <a:tab algn="ctr" pos="314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*р≥0,95; **р≥0,99; *** р≥0,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115640" y="9360"/>
            <a:ext cx="76532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Calibri"/>
              <a:ea typeface="Times New Roman"/>
            </a:endParaRPr>
          </a:p>
        </p:txBody>
      </p:sp>
      <p:sp>
        <p:nvSpPr>
          <p:cNvPr id="1558" name="Номер слайда 3"/>
          <p:cNvSpPr/>
          <p:nvPr/>
        </p:nvSpPr>
        <p:spPr>
          <a:xfrm>
            <a:off x="699912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ED3E-EEDA-4914-A1C7-7DDDC4C3480D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9" name="Диаграмма 2"/>
          <p:cNvGraphicFramePr/>
          <p:nvPr/>
        </p:nvGraphicFramePr>
        <p:xfrm>
          <a:off x="704880" y="1146240"/>
          <a:ext cx="7950240" cy="521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0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146240"/>
                    <a:ext cx="795024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923760" y="873000"/>
            <a:ext cx="8040960" cy="9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Прямоугольник 2"/>
          <p:cNvSpPr/>
          <p:nvPr/>
        </p:nvSpPr>
        <p:spPr>
          <a:xfrm>
            <a:off x="1332000" y="181080"/>
            <a:ext cx="79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Таблица 3 - Молочная продуктивность подопытных живот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Номер слайда 3"/>
          <p:cNvSpPr/>
          <p:nvPr/>
        </p:nvSpPr>
        <p:spPr>
          <a:xfrm>
            <a:off x="6804000" y="61387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71DC-E29E-4939-99CF-546F57EF5760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Прямоугольник 7"/>
          <p:cNvSpPr/>
          <p:nvPr/>
        </p:nvSpPr>
        <p:spPr>
          <a:xfrm>
            <a:off x="684360" y="5676840"/>
            <a:ext cx="78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: собственные исследования, в рамках магистерской диссер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5" name=""/>
          <p:cNvGraphicFramePr/>
          <p:nvPr/>
        </p:nvGraphicFramePr>
        <p:xfrm>
          <a:off x="684360" y="1071720"/>
          <a:ext cx="8208720" cy="4599000"/>
        </p:xfrm>
        <a:graphic>
          <a:graphicData uri="http://schemas.openxmlformats.org/drawingml/2006/table">
            <a:tbl>
              <a:tblPr/>
              <a:tblGrid>
                <a:gridCol w="3282840"/>
                <a:gridCol w="1568520"/>
                <a:gridCol w="1616040"/>
                <a:gridCol w="1741320"/>
              </a:tblGrid>
              <a:tr h="893160">
                <a:tc>
                  <a:txBody>
                    <a:bodyPr lIns="0" rIns="0" tIns="0" bIns="0" anchor="ctr">
                      <a:noAutofit/>
                    </a:bodyPr>
                    <a:p>
                      <a:pPr marL="65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4a7eb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опытная группа (Руми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опытная группа (Целлобактерин+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0080">
                <a:tc>
                  <a:txBody>
                    <a:bodyPr lIns="0" rIns="0" tIns="0" bIns="0" anchor="ctr">
                      <a:noAutofit/>
                    </a:bodyPr>
                    <a:p>
                      <a:pPr marL="65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суточный удой , 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4a7ebb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8±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4f81bd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5±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4a7ebb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±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4f81bd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0" rIns="0" tIns="0" bIns="0" anchor="ctr">
                      <a:noAutofit/>
                    </a:bodyPr>
                    <a:p>
                      <a:pPr marL="65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ой надой за период опыта, 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3±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0±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4a7ebb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4±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4f81bd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0" rIns="0" tIns="0" bIns="0" anchor="ctr">
                      <a:noAutofit/>
                    </a:bodyPr>
                    <a:p>
                      <a:pPr marL="65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ДЖ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5±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2±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4a7ebb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9±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4f81bd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0" rIns="0" tIns="0" bIns="0" anchor="ctr">
                      <a:noAutofit/>
                    </a:bodyPr>
                    <a:p>
                      <a:pPr marL="65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ДБ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1±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4±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4a7ebb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6±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4f81bd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0" rIns="0" tIns="0" bIns="0" anchor="ctr">
                      <a:noAutofit/>
                    </a:bodyPr>
                    <a:p>
                      <a:pPr marL="65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ой надой базисной жирности за период опыта, 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1±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64±1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4a7ebb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9±1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4f81bd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0" rIns="0" tIns="0" bIns="0" anchor="ctr">
                      <a:noAutofit/>
                    </a:bodyPr>
                    <a:p>
                      <a:pPr marL="65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суточный удой базисной жирности, 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8±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4±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4a7ebb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±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4f81bd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0" rIns="0" tIns="0" bIns="0" anchor="ctr">
                      <a:noAutofit/>
                    </a:bodyPr>
                    <a:p>
                      <a:pPr marL="65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к контрол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2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4a7ebb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2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4f81bd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0" rIns="0" tIns="0" bIns="0" anchor="ctr">
                      <a:noAutofit/>
                    </a:bodyPr>
                    <a:p>
                      <a:pPr marL="65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ый выход молочного жира за период опыта, 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,4±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,0±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4a7ebb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,7±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4f81bd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0" rIns="0" tIns="0" bIns="0" anchor="ctr">
                      <a:noAutofit/>
                    </a:bodyPr>
                    <a:p>
                      <a:pPr marL="65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ый выход молочного белка за период опыта, 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4±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1±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4a7ebb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,6±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4f81bd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3T08:01:34Z</dcterms:created>
  <dc:creator>Microsoft Office</dc:creator>
  <dc:description/>
  <dc:language>en-US</dc:language>
  <cp:lastModifiedBy>Наталья В. Бурцева</cp:lastModifiedBy>
  <cp:lastPrinted>2018-12-07T11:06:31Z</cp:lastPrinted>
  <dcterms:modified xsi:type="dcterms:W3CDTF">2020-02-27T08:14:03Z</dcterms:modified>
  <cp:revision>307</cp:revision>
  <dc:subject/>
  <dc:title>Презентация PowerPoint</dc:title>
</cp:coreProperties>
</file>