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261-8D2D-46E2-A4F7-9D7C664E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61B-CEAF-4DE8-B957-589B2F0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829-828D-403C-8539-B3BB7A56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C7D-3C57-4157-8707-AE9CB80B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D73-A54E-432A-BC93-2871EC99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6A1-8124-4031-AE81-E0B1A12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DDF-31DA-4B0C-AA3A-A90978FF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BD4-484F-4807-86DC-559FC1EF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450-7103-4B20-926E-B51973A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21A-E20A-4362-9649-93E4A3A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BF3-CAD4-4926-81DB-99DF7AE9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133-7175-4079-9EDF-B24BBED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E311-1C5C-4C6A-8758-35DF52508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78469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ая кормовая добавка в кормлении высокопродуктивных кор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кова А.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зоотехник СХПК «ПЗ Майский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ант кафедры зоотехнии и биологии ВГМХА им.Н.В Верещаг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059280" y="6021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да – Мол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4552920" cy="296244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4" descr=""/>
          <p:cNvPicPr/>
          <p:nvPr/>
        </p:nvPicPr>
        <p:blipFill>
          <a:blip r:embed="rId2"/>
          <a:stretch/>
        </p:blipFill>
        <p:spPr>
          <a:xfrm>
            <a:off x="4419720" y="2633760"/>
            <a:ext cx="4370400" cy="3101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468360" y="32846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трачено кормов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г молока нату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ости, Э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319640" y="58039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трачено концентратов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г молока нату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ости,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Майский, СХПК Племзавод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IMG-20181009-WA0004.jpg"/>
          <p:cNvPicPr/>
          <p:nvPr/>
        </p:nvPicPr>
        <p:blipFill>
          <a:blip r:embed="rId1"/>
          <a:srcRect l="11209" t="21456" r="11069" b="3910"/>
          <a:stretch/>
        </p:blipFill>
        <p:spPr>
          <a:xfrm>
            <a:off x="3708360" y="3141720"/>
            <a:ext cx="5219640" cy="371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rcRect l="0" t="13106" r="0" b="8484"/>
          <a:stretch/>
        </p:blipFill>
        <p:spPr>
          <a:xfrm>
            <a:off x="108000" y="0"/>
            <a:ext cx="5580000" cy="328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Майский, СХПК Племзавод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457200" y="5486400"/>
            <a:ext cx="8458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89000"/>
            <a:ext cx="727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ЗАНА B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 энергии (23,95 МДж в 1 кг), предназначен  для сухостойных коров перед отелом и для коров в начале лак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  состоит  из  высокоэффективных  глюкопластических веществ БОВИН-С-КОМПЛЕК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свойства добавки обусловлены входящими в состав компонентами. Пропиленгликоль и глицерин в организме жвачных принимают участие в обмене веществ и используются для образования глюкозы в крови, а также для непосредственного синтеза энергии, способствуя снижению риска заболевания кетоз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User\Desktop\logo-schaumann-barevn-stedn.jpg"/>
          <p:cNvPicPr/>
          <p:nvPr/>
        </p:nvPicPr>
        <p:blipFill>
          <a:blip r:embed="rId1"/>
          <a:stretch/>
        </p:blipFill>
        <p:spPr>
          <a:xfrm>
            <a:off x="539640" y="115920"/>
            <a:ext cx="200196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Майский, СХПК Племзавод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000" y="333000"/>
            <a:ext cx="8218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Цель исследования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ось  выявление  эффективности  скармливания энергетической  добавки  Тирзана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копродуктивным  коровам  айрширской  породы  в  сухостойный  и  раздойный   пери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Задачи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лияние добавка на молочную продуктив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влияние кормового средства на пищевое поведение ко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влияние на качественные показатели моло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репродуктивные способности ко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зоотехническую и  экономическую оценку применения добавки при производстве мол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0920" y="1197000"/>
          <a:ext cx="8723160" cy="4538520"/>
        </p:xfrm>
        <a:graphic>
          <a:graphicData uri="http://schemas.openxmlformats.org/drawingml/2006/table">
            <a:tbl>
              <a:tblPr/>
              <a:tblGrid>
                <a:gridCol w="2073240"/>
                <a:gridCol w="1908000"/>
                <a:gridCol w="4741920"/>
              </a:tblGrid>
              <a:tr h="828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оров, го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 корм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 рацион (ОР) + глицерин до  отела 30 дней и  после  него  60  дней (по 100 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+ Тирзана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K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  отела 30 дней и  после  него  60  дней (по 300 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+ Тирзана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K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сле  отела 300 г 90  дне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 - Схема научно-хозяйственного опыта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8000" y="1125360"/>
          <a:ext cx="8929800" cy="5678640"/>
        </p:xfrm>
        <a:graphic>
          <a:graphicData uri="http://schemas.openxmlformats.org/drawingml/2006/table">
            <a:tbl>
              <a:tblPr/>
              <a:tblGrid>
                <a:gridCol w="2376360"/>
                <a:gridCol w="1295640"/>
                <a:gridCol w="1008000"/>
                <a:gridCol w="1008000"/>
                <a:gridCol w="1322280"/>
                <a:gridCol w="959040"/>
                <a:gridCol w="960480"/>
              </a:tblGrid>
              <a:tr h="3906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и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хо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о злаковое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мовая смесь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 сенаж злаково-бобовый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рносенаж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лос злаково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бовый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бикорм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мых подсолнечн.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ом свекловичный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ока свекловичная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микс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ь поваренная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Тирзана BSK»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ицерин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 -Состав и питательность рационов коров по фактической поедае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ционе содерж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14200" y="344520"/>
          <a:ext cx="8929800" cy="6513480"/>
        </p:xfrm>
        <a:graphic>
          <a:graphicData uri="http://schemas.openxmlformats.org/drawingml/2006/table">
            <a:tbl>
              <a:tblPr/>
              <a:tblGrid>
                <a:gridCol w="2376720"/>
                <a:gridCol w="1295280"/>
                <a:gridCol w="1008000"/>
                <a:gridCol w="1008000"/>
                <a:gridCol w="1322640"/>
                <a:gridCol w="958680"/>
                <a:gridCol w="960480"/>
              </a:tblGrid>
              <a:tr h="2872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и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хост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ытная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менная энергия, М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хое вещество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ой протеин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аримый протеин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П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П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ой жир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ая клетчатка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ДК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ДК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хмал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рий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ьций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сфор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ний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й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а,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отин, м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 – Результаты изучения пищевого поведения ко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197000"/>
          <a:ext cx="8569080" cy="4648320"/>
        </p:xfrm>
        <a:graphic>
          <a:graphicData uri="http://schemas.openxmlformats.org/drawingml/2006/table">
            <a:tbl>
              <a:tblPr/>
              <a:tblGrid>
                <a:gridCol w="3458880"/>
                <a:gridCol w="1725840"/>
                <a:gridCol w="1724040"/>
                <a:gridCol w="1660320"/>
              </a:tblGrid>
              <a:tr h="37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ления кормов, ми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,0±2,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0±1,73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7±1,20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отребления кормов,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±0,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±1,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±0,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вачки, ми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3,0±8,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,0±2,85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,0±2,46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жвачки,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±0,5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±0,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±1,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24000" y="5877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Р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,95; ** Р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очная продуктивность коро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125360"/>
          <a:ext cx="8713800" cy="5112000"/>
        </p:xfrm>
        <a:graphic>
          <a:graphicData uri="http://schemas.openxmlformats.org/drawingml/2006/table">
            <a:tbl>
              <a:tblPr/>
              <a:tblGrid>
                <a:gridCol w="3097080"/>
                <a:gridCol w="2016000"/>
                <a:gridCol w="1800360"/>
                <a:gridCol w="1800360"/>
              </a:tblGrid>
              <a:tr h="395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уточный  удой  в  среднем  за  опыт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±0,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1±0,94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±1,03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 доля  жира, 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1±0,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7±0,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±0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очный  удой  молока  базисной  жирности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±1,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7±1,31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9±1,35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 доля  белка,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3±0,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5±0,0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3±0,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2" descr="Майский, СХПК Племзавод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324000" y="6237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 Р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536400" y="68904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Майский, СХПК Племзавод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466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476360" y="558972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 – Длительность сервис – периода,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8T04:58:52Z</dcterms:created>
  <dc:creator>Аня</dc:creator>
  <dc:description/>
  <dc:language>en-US</dc:language>
  <cp:lastModifiedBy>User</cp:lastModifiedBy>
  <dcterms:modified xsi:type="dcterms:W3CDTF">2020-02-28T09:36:02Z</dcterms:modified>
  <cp:revision>28</cp:revision>
  <dc:subject/>
  <dc:title>Энергетическая добавка в рационах коров айрширской породы</dc:title>
</cp:coreProperties>
</file>