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EBE35-AC8C-44E1-BA54-8A41DAB4CB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9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936D-88F5-4916-A4E3-D58C6519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4680"/>
            <a:ext cx="90630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A0E9-1F81-4504-9984-65B3563A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4680"/>
            <a:ext cx="4422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054680"/>
            <a:ext cx="4422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193B-D414-4F2A-B518-67314417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4680"/>
            <a:ext cx="291816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054680"/>
            <a:ext cx="291816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054680"/>
            <a:ext cx="291816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9AF2-83A3-4971-B96E-79AC9762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F6F1-EAFD-4D73-8305-3237CB28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0B02-0240-4F7B-A0AF-53A8275A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13B7-CC80-4AC8-A135-A7FE2035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3662-DBCF-4F68-A4A8-7BAA3FCE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FA43-7369-4C72-9FE5-1FE7E85B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4680"/>
            <a:ext cx="4422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5DC3-9570-4410-89F4-D2A851FF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054680"/>
            <a:ext cx="4422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433E-4F33-4B9C-9F6A-4398D8EE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4680"/>
            <a:ext cx="90630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23EC-BDE2-468C-BFEF-741DAD7C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B93B5-D145-4107-89F8-875A8169CD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46240"/>
            <a:ext cx="100807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8136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7480" y="1768320"/>
            <a:ext cx="9901080" cy="56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0160" bIns="45000" anchor="t">
            <a:noAutofit/>
          </a:bodyPr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А.И.Сотниченко, В.В. Ох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Докладч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Александр Иванович Сотничен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к.б.н., начальник отд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НПЦ „Фокс и Ко“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Москва,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7640" y="-71280"/>
            <a:ext cx="8823240" cy="21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360" bIns="45000" anchor="t">
            <a:noAutofit/>
          </a:bodyPr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alatino Linotype"/>
              </a:rPr>
              <a:t>„</a:t>
            </a:r>
            <a:r>
              <a:rPr b="1" lang="ru-RU" sz="4000" spc="-1" strike="noStrike">
                <a:solidFill>
                  <a:srgbClr val="000000"/>
                </a:solidFill>
                <a:latin typeface="Palatino Linotype"/>
                <a:ea typeface="Lucida Sans Unicode"/>
              </a:rPr>
              <a:t>Некоторые аспекты химической безопасности корм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alatino Linotype"/>
                <a:ea typeface="Lucida Sans Unicode"/>
              </a:rPr>
              <a:t>крупного рогатого скота</a:t>
            </a:r>
            <a:r>
              <a:rPr b="1" lang="ru-RU" sz="4000" spc="-1" strike="noStrike">
                <a:solidFill>
                  <a:srgbClr val="000000"/>
                </a:solidFill>
                <a:latin typeface="Palatino Linotype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01680"/>
            <a:ext cx="1008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7308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Palatino Linotype"/>
              </a:rPr>
              <a:t>10. Концентрация ХОП в моло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74680" y="1655640"/>
            <a:ext cx="8113680" cy="57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3120"/>
            <a:ext cx="100807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7308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Palatino Linotype"/>
              </a:rPr>
              <a:t>11. Концентрация ХОП в молози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41440" y="1179360"/>
            <a:ext cx="9126360" cy="616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213840"/>
            <a:ext cx="907092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465a4"/>
                </a:solidFill>
                <a:latin typeface="Palatino Linotype"/>
              </a:rPr>
              <a:t>12. Сравнительная эффективность кормовых адсорбентов в отношении неполярных токсинов (</a:t>
            </a:r>
            <a:r>
              <a:rPr b="1" lang="ru-RU" sz="2800" spc="-1" strike="noStrike">
                <a:solidFill>
                  <a:srgbClr val="800000"/>
                </a:solidFill>
                <a:latin typeface="Palatino Linotype"/>
              </a:rPr>
              <a:t>Log Pow &gt; 3</a:t>
            </a:r>
            <a:r>
              <a:rPr b="1" lang="ru-RU" sz="2800" spc="-1" strike="noStrike">
                <a:solidFill>
                  <a:srgbClr val="3465a4"/>
                </a:solidFill>
                <a:latin typeface="Palatino Linotyp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93840" y="1768320"/>
            <a:ext cx="7921440" cy="57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8928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Palatino Linotype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84000"/>
              </a:lnSpc>
              <a:spcBef>
                <a:spcPts val="1426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Palatino Linotype"/>
              </a:rPr>
              <a:t>Благодарю за внимание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920" y="301680"/>
            <a:ext cx="993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7308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Palatino Linotype"/>
              </a:rPr>
              <a:t>2. Основные виды токсических примесей в кормах с/х живот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3280" y="1655640"/>
            <a:ext cx="921528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Микотоксины (МК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флатоксины, фумонизины, ДОН, Т-2/НТ-2 токсины, зеараленон, охратоксин А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олиароматические углеводороды (ПА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фталин, бензпирен, хризен, бензантрацен, дибензантрацен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Стойкие органические загрязнители (СО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льдрин, диэльдрин, гептахлор, эндрин, ДДТ, гексахлорциклогексаны, полихлорированные бифенилы, диоксины, фураны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7308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a6099"/>
                </a:solidFill>
                <a:latin typeface="Palatino Linotype"/>
              </a:rPr>
              <a:t>3. Основные источники поступления СОЗ в организм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36720" y="1368360"/>
            <a:ext cx="8159760" cy="614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4. Распределение СОЗ и ПАУ по частям злаковых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760" y="1511280"/>
            <a:ext cx="961056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312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300dc"/>
                </a:solidFill>
                <a:latin typeface="Palatino Linotype"/>
              </a:rPr>
              <a:t>5. Распределение СОЗ и ПАУ по частям злаковых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87280" y="1295280"/>
          <a:ext cx="9191160" cy="6100560"/>
        </p:xfrm>
        <a:graphic>
          <a:graphicData uri="http://schemas.openxmlformats.org/drawingml/2006/table">
            <a:tbl>
              <a:tblPr/>
              <a:tblGrid>
                <a:gridCol w="2869200"/>
                <a:gridCol w="2389320"/>
                <a:gridCol w="3932640"/>
              </a:tblGrid>
              <a:tr h="924120">
                <a:tc>
                  <a:txBody>
                    <a:bodyPr lIns="90000" rIns="90000" tIns="455040" bIns="46800" anchor="t">
                      <a:noAutofit/>
                    </a:bodyPr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Объ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55040" bIns="46800" anchor="t">
                      <a:noAutofit/>
                    </a:bodyPr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Диокс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(пг/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55040" bIns="46800" anchor="t">
                      <a:noAutofit/>
                    </a:bodyPr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Концент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по сравнению с зерн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652680">
                <a:tc>
                  <a:txBody>
                    <a:bodyPr lIns="90000" rIns="90000" tIns="455040" bIns="46800" anchor="t">
                      <a:noAutofit/>
                    </a:bodyPr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Поч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55040" bIns="46800" anchor="t">
                      <a:noAutofit/>
                    </a:bodyPr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25000" bIns="46800" anchor="t">
                      <a:noAutofit/>
                    </a:bodyPr>
                    <a:p>
                      <a:pPr algn="ctr">
                        <a:lnSpc>
                          <a:spcPct val="6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52680">
                <a:tc gridSpan="3">
                  <a:txBody>
                    <a:bodyPr lIns="90000" rIns="90000" tIns="455040" bIns="46800" anchor="t">
                      <a:noAutofit/>
                    </a:bodyPr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Часть раст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6800">
                <a:tc>
                  <a:txBody>
                    <a:bodyPr lIns="90000" rIns="90000" tIns="455040" bIns="46800" anchor="t">
                      <a:noAutofit/>
                    </a:bodyPr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Зер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55040" bIns="46800" anchor="t">
                      <a:noAutofit/>
                    </a:bodyPr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0,0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70240" bIns="46800" anchor="t">
                      <a:noAutofit/>
                    </a:bodyPr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Palatino Linotyp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67160">
                <a:tc>
                  <a:txBody>
                    <a:bodyPr lIns="90000" rIns="90000" tIns="455040" bIns="46800" anchor="t">
                      <a:noAutofit/>
                    </a:bodyPr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Сок кси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55040" bIns="46800" anchor="t">
                      <a:noAutofit/>
                    </a:bodyPr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&lt;0,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70240" bIns="46800" anchor="t">
                      <a:noAutofit/>
                    </a:bodyPr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Palatino Linotype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66800">
                <a:tc>
                  <a:txBody>
                    <a:bodyPr lIns="90000" rIns="90000" tIns="455040" bIns="46800" anchor="t">
                      <a:noAutofit/>
                    </a:bodyPr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Стеб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55040" bIns="46800" anchor="t">
                      <a:noAutofit/>
                    </a:bodyPr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70240" bIns="46800" anchor="t">
                      <a:noAutofit/>
                    </a:bodyPr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Palatino Linotype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67160">
                <a:tc>
                  <a:txBody>
                    <a:bodyPr lIns="90000" rIns="90000" tIns="455040" bIns="46800" anchor="t">
                      <a:noAutofit/>
                    </a:bodyPr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Оболочка зер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55040" bIns="46800" anchor="t">
                      <a:noAutofit/>
                    </a:bodyPr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0,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70240" bIns="46800" anchor="t">
                      <a:noAutofit/>
                    </a:bodyPr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Palatino Linotype"/>
                        </a:rPr>
                        <a:t>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803160">
                <a:tc>
                  <a:txBody>
                    <a:bodyPr lIns="90000" rIns="90000" tIns="455040" bIns="46800" anchor="t">
                      <a:noAutofit/>
                    </a:bodyPr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Листь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55040" bIns="46800" anchor="t">
                      <a:noAutofit/>
                    </a:bodyPr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70240" bIns="46800" anchor="t">
                      <a:noAutofit/>
                    </a:bodyPr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Palatino Linotype"/>
                        </a:rPr>
                        <a:t>37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7308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9211e"/>
                </a:solidFill>
                <a:latin typeface="Palatino Linotype"/>
              </a:rPr>
              <a:t>6. Токсины в кормах для сельскохозяйственных живот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680" y="1638360"/>
          <a:ext cx="10153440" cy="5943240"/>
        </p:xfrm>
        <a:graphic>
          <a:graphicData uri="http://schemas.openxmlformats.org/drawingml/2006/table">
            <a:tbl>
              <a:tblPr/>
              <a:tblGrid>
                <a:gridCol w="2861280"/>
                <a:gridCol w="2637000"/>
                <a:gridCol w="4655160"/>
              </a:tblGrid>
              <a:tr h="1509840">
                <a:tc>
                  <a:txBody>
                    <a:bodyPr lIns="90000" rIns="90000" tIns="493920" bIns="46800" anchor="t">
                      <a:noAutofit/>
                    </a:bodyPr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Живот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93920" bIns="46800" anchor="t">
                      <a:noAutofit/>
                    </a:bodyPr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Основн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компонен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кор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93920" bIns="46800" anchor="t">
                      <a:noAutofit/>
                    </a:bodyPr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Основные ток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примеси в кор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1724400">
                <a:tc>
                  <a:txBody>
                    <a:bodyPr lIns="90000" rIns="90000" tIns="493920" bIns="46800" anchor="t">
                      <a:noAutofit/>
                    </a:bodyPr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Птица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Свиньи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Рыб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34600" bIns="46800" anchor="t">
                      <a:noAutofit/>
                    </a:bodyPr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996600"/>
                          </a:solidFill>
                          <a:uFillTx/>
                          <a:latin typeface="Palatino Linotype"/>
                        </a:rPr>
                        <a:t>Зер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и корма 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его основ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93920" bIns="46800" anchor="t">
                      <a:noAutofit/>
                    </a:bodyPr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Микотокс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09000">
                <a:tc>
                  <a:txBody>
                    <a:bodyPr lIns="90000" rIns="90000" tIns="493920" bIns="46800" anchor="t">
                      <a:noAutofit/>
                    </a:bodyPr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Коровы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Буйволы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Козы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Овцы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Лоша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34600" bIns="46800" anchor="t">
                      <a:noAutofit/>
                    </a:bodyPr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a933"/>
                          </a:solidFill>
                          <a:uFillTx/>
                          <a:latin typeface="Palatino Linotype"/>
                        </a:rPr>
                        <a:t>Тра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и корма 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её основ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93920" bIns="46800" anchor="t">
                      <a:noAutofit/>
                    </a:bodyPr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Микотокс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Стойкие орган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загрязнители (СОЗ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Полиаромат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улеводороды (ПА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7308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Palatino Linotype"/>
              </a:rPr>
              <a:t>7. Токсины в кормах для КР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46080" y="1368360"/>
            <a:ext cx="10126800" cy="50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360" bIns="45000" anchor="t">
            <a:noAutofit/>
          </a:bodyPr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9211e"/>
                </a:solidFill>
                <a:latin typeface="Palatino Linotype"/>
              </a:rPr>
              <a:t>Стойкие органические загрязн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9211e"/>
                </a:solidFill>
                <a:latin typeface="Palatino Linotype"/>
              </a:rPr>
              <a:t>(СО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9211e"/>
                </a:solidFill>
                <a:latin typeface="Palatino Linotype"/>
              </a:rPr>
              <a:t>Полиароматические углеводо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9211e"/>
                </a:solidFill>
                <a:latin typeface="Palatino Linotype"/>
              </a:rPr>
              <a:t>(ПА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9211e"/>
                </a:solidFill>
                <a:latin typeface="Palatino Linotype"/>
              </a:rPr>
              <a:t>Микотокс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71280"/>
            <a:ext cx="100076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8136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465a4"/>
                </a:solidFill>
                <a:latin typeface="Palatino Linotype"/>
              </a:rPr>
              <a:t>8. О полярности органических</a:t>
            </a:r>
            <a:br>
              <a:rPr sz="4000"/>
            </a:br>
            <a:r>
              <a:rPr b="1" lang="ru-RU" sz="4000" spc="-1" strike="noStrike">
                <a:solidFill>
                  <a:srgbClr val="3465a4"/>
                </a:solidFill>
                <a:latin typeface="Palatino Linotype"/>
              </a:rPr>
              <a:t>веществ (Log P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0" y="1768320"/>
          <a:ext cx="10081800" cy="5733720"/>
        </p:xfrm>
        <a:graphic>
          <a:graphicData uri="http://schemas.openxmlformats.org/drawingml/2006/table">
            <a:tbl>
              <a:tblPr/>
              <a:tblGrid>
                <a:gridCol w="6138000"/>
                <a:gridCol w="3943800"/>
              </a:tblGrid>
              <a:tr h="1629360">
                <a:tc>
                  <a:txBody>
                    <a:bodyPr lIns="90000" rIns="90000" tIns="426600" bIns="46800" anchor="ctr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ярные, гидрофильн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26600" bIns="46800" anchor="ctr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36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Log Pow &lt; 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1924200">
                <a:tc>
                  <a:txBody>
                    <a:bodyPr lIns="90000" rIns="90000" tIns="426600" bIns="46800" anchor="ctr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еренно (не) полярн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26600" bIns="46800" anchor="ctr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≤ Log Pow &lt;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180160">
                <a:tc>
                  <a:txBody>
                    <a:bodyPr lIns="90000" rIns="90000" tIns="426600" bIns="46800" anchor="ctr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c9211e"/>
                          </a:solidFill>
                          <a:latin typeface="Times New Roman"/>
                        </a:rPr>
                        <a:t>Неполярные, липофильные,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c9211e"/>
                          </a:solidFill>
                          <a:latin typeface="Times New Roman"/>
                        </a:rPr>
                        <a:t>гидрофобн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26600" bIns="46800" anchor="ctr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Log Pow ≥ 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100807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8136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Palatino Linotype"/>
              </a:rPr>
              <a:t>9. О полярности токсинов в кормах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Palatino Linotype"/>
              </a:rPr>
              <a:t>для КРС</a:t>
            </a:r>
            <a:r>
              <a:rPr b="1" lang="ru-RU" sz="4000" spc="-1" strike="noStrike">
                <a:solidFill>
                  <a:srgbClr val="800000"/>
                </a:solidFill>
                <a:latin typeface="Palatino Linotype"/>
              </a:rPr>
              <a:t>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Sotnichenko et al. (20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16000" y="1800360"/>
          <a:ext cx="9810360" cy="5617800"/>
        </p:xfrm>
        <a:graphic>
          <a:graphicData uri="http://schemas.openxmlformats.org/drawingml/2006/table">
            <a:tbl>
              <a:tblPr/>
              <a:tblGrid>
                <a:gridCol w="4431240"/>
                <a:gridCol w="2161080"/>
                <a:gridCol w="1665720"/>
                <a:gridCol w="1552320"/>
              </a:tblGrid>
              <a:tr h="1644840">
                <a:tc>
                  <a:txBody>
                    <a:bodyPr lIns="90000" rIns="90000" tIns="551160" bIns="46800" anchor="t">
                      <a:noAutofit/>
                    </a:bodyPr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Степ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поляр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551160" bIns="46800" anchor="t">
                      <a:noAutofit/>
                    </a:bodyPr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МК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(n = 150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551160" bIns="46800" anchor="t">
                      <a:noAutofit/>
                    </a:bodyPr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ПА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(n = 4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551160" bIns="46800" anchor="t">
                      <a:noAutofit/>
                    </a:bodyPr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СО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(n=5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924480">
                <a:tc>
                  <a:txBody>
                    <a:bodyPr lIns="90000" rIns="90000" tIns="551160" bIns="46800" anchor="t">
                      <a:noAutofit/>
                    </a:bodyPr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Полярные (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51160" bIns="46800" anchor="t">
                      <a:noAutofit/>
                    </a:bodyPr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51160" bIns="46800" anchor="t">
                      <a:noAutofit/>
                    </a:bodyPr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51160" bIns="46800" anchor="t">
                      <a:noAutofit/>
                    </a:bodyPr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403640">
                <a:tc>
                  <a:txBody>
                    <a:bodyPr lIns="90000" rIns="90000" tIns="551160" bIns="46800" anchor="t">
                      <a:noAutofit/>
                    </a:bodyPr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Умеренно (не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полярные (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51160" bIns="46800" anchor="t">
                      <a:noAutofit/>
                    </a:bodyPr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3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51160" bIns="46800" anchor="t">
                      <a:noAutofit/>
                    </a:bodyPr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51160" bIns="46800" anchor="t">
                      <a:noAutofit/>
                    </a:bodyPr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644840">
                <a:tc>
                  <a:txBody>
                    <a:bodyPr lIns="90000" rIns="90000" tIns="551160" bIns="46800" anchor="t">
                      <a:noAutofit/>
                    </a:bodyPr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200" spc="-1" strike="noStrike">
                          <a:solidFill>
                            <a:srgbClr val="c9211e"/>
                          </a:solidFill>
                          <a:latin typeface="Palatino Linotype"/>
                        </a:rPr>
                        <a:t>Неполярные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200" spc="-1" strike="noStrike">
                          <a:solidFill>
                            <a:srgbClr val="c9211e"/>
                          </a:solidFill>
                          <a:latin typeface="Palatino Linotype"/>
                        </a:rPr>
                        <a:t>липофильные (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51160" bIns="46800" anchor="t">
                      <a:noAutofit/>
                    </a:bodyPr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200" spc="-1" strike="noStrike">
                          <a:solidFill>
                            <a:srgbClr val="c9211e"/>
                          </a:solidFill>
                          <a:latin typeface="Palatino Linotype"/>
                        </a:rPr>
                        <a:t>4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51160" bIns="46800" anchor="t">
                      <a:noAutofit/>
                    </a:bodyPr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200" spc="-1" strike="noStrike">
                          <a:solidFill>
                            <a:srgbClr val="c9211e"/>
                          </a:solidFill>
                          <a:latin typeface="Palatino Linotype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51160" bIns="46800" anchor="t">
                      <a:noAutofit/>
                    </a:bodyPr>
                    <a:p>
                      <a:pPr algn="ctr"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200" spc="-1" strike="noStrike">
                          <a:solidFill>
                            <a:srgbClr val="c9211e"/>
                          </a:solidFill>
                          <a:latin typeface="Palatino Linotype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20T07:37:20Z</dcterms:created>
  <dc:creator/>
  <dc:description/>
  <dc:language>en-US</dc:language>
  <cp:lastModifiedBy/>
  <dcterms:modified xsi:type="dcterms:W3CDTF">2020-02-26T18:51:55Z</dcterms:modified>
  <cp:revision>32</cp:revision>
  <dc:subject/>
  <dc:title/>
</cp:coreProperties>
</file>